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4" name="Rectangle 2"/>
          <p:cNvSpPr/>
          <p:nvPr/>
        </p:nvSpPr>
        <p:spPr>
          <a:xfrm>
            <a:off x="2940840" y="9131400"/>
            <a:ext cx="1422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lliard"/>
              </a:rPr>
              <a:t>Page </a:t>
            </a:r>
            <a:fld id="{716A7FDD-4D62-46C2-A79D-66B34D61B2FD}" type="slidenum">
              <a:rPr b="0" lang="en-US" sz="1300" spc="-1" strike="noStrike">
                <a:solidFill>
                  <a:srgbClr val="000000"/>
                </a:solidFill>
                <a:latin typeface="Galliard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Blackman harris has good interference rejection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Other windows better in band shape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Limit of 6 x fft due to on chip memory limit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sk about implementation detail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Columns now and future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Real time means processed slightly faster than the sample rate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8 field programmable gate array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and b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Fns do station based processing and channelisation. Bns receive ¼ of the bandwidth. Coloured line represent chunks of frequency bin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Signal taps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More unbs -&gt; more bw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443F-745C-4F91-BA44-5F25A9E57459}" type="slidenum">
              <a:rPr b="0" lang="en-US" sz="3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E0ADD8-40AD-4EB6-A287-B7E4021C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58F6BB-4027-4F34-93B4-F519DD9B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CFD4C2-0442-4202-97F1-46DFF481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36B052-6325-4B8A-9B37-C50B565E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133B8-26E5-4768-A0A6-462F41E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628F02-F88F-4275-8DBE-19255E3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96B121-C28C-470F-B648-B3A7F056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C549E-AFD7-45F4-B9A9-96FAC8B5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7057A8-2131-401D-9EA5-C20BDB7D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3230A-C3DB-4340-9F83-08B8EC41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DCC06-19C2-436C-81F4-553CB28B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BA760-70C5-420C-9C2B-8206FEAF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25330-AEB3-4F9F-B5A2-33A74BF0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3E320-3E50-4178-98D9-8DEE8858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5B957-2522-430D-8D32-13894124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8A783-271D-4E4D-9D86-2CBD0A02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EADB2-4747-470C-89D1-D899BA8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5E740-5419-4869-A0F5-3AB1AE17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7E07A-3CEF-48A6-BB70-3E471B0F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DCDD1-4AE0-4A86-B92E-ACC23088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BBDF9-A0F4-4F23-ACDE-9E348275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DADBB-B8F9-46D9-9866-6078C4A5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B0F93-EA80-4880-A8D9-177949C9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8C34D-32FC-4443-91EB-5FD2838D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82D0B-B74B-4656-B4D6-A6F72E8D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C9522-7025-49E3-BE7C-6182234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7CE39-3032-4FF2-9424-EE35CF37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0AFE4-D1A4-4D4C-9085-DD95257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562F8-2575-4BD8-B6A1-656F87C7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A6872-4599-4803-A725-5689E3E1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972A5-FDE8-43CC-BA76-D48AF34A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AA22D-8624-42D8-8195-551245F0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E2BC6-E210-4765-A626-52C1036D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9695D-C6F8-4F2A-971A-F423B7D1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483BF5-54E1-418E-A5EE-45ED1CF9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5BFE3F-ED95-4B52-A066-217AB274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0C652F-1EB8-4340-85D1-5DB0B90B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F4E700-B2F7-4357-98F7-51C6E1A9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75E4CA-BF21-4B48-BC6E-C149E43F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C91CAC-7CFC-47FE-91EE-18221527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33B0D1-8225-40C4-8C88-3CB6EC17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502AC-DDBD-435A-8383-8593C518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E66D05-A83B-4705-9313-0783716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829617-C064-4A6B-B830-5CC3FE2D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8FDDF4-8340-4F0C-830B-8651248E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3B5069-EFF8-4AA4-862F-769BF727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61D60F-426E-4290-B548-6717444B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C7BEA-64D1-41AF-8AE3-ED529D8F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7AF82-8F1B-4DD0-BB6C-CB74B9D6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5687D-E101-4B14-AED4-C0F9533B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CBCA8-7A4F-45C3-9B47-B376C65F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9F3C8-0507-4D52-BEF3-AA71D246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31B88-29F5-4CF3-BD53-8EF8D293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380FB-A002-4D89-BA8D-FDEC4192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D453E-48FC-4B57-BF5C-52A05AAC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DA992-8505-47BF-814E-FA656A8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8DFE4-502A-493F-A6BC-AA956E8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103F5-F0AC-4A39-8CE1-503877F9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B5A18-37D3-42B9-8657-6338ADAE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128AA-439C-41E2-AA6B-C18768DF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880A92-2958-4099-9CDB-70EB30DF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84545E-3544-4E46-B628-0F31054C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79049F-FF3A-45C3-ADA1-8E993FB7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45921-C42E-444B-8149-2E7E8E5D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109AAF-2BC3-4E8A-9592-50E27902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270593-2D91-42EE-AF9F-0D0C08D4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381018-F9A7-49AC-A4B6-597F6709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FC375B-05F4-4FF6-A6A5-B44C672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4F6D15-0E69-49CD-8231-42E3C63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155166-F8C4-4AD8-A432-76019629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E16113-49E3-4B7C-9D25-20B192B9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9DA918-E2BD-4293-9D71-FF698106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05FAB2-B12A-48FD-ABC5-0D954BA5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44F30E-16F2-4D11-B06C-E70D7736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A3870-D93F-44D9-92BF-DBB543C7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E3A5B7-178B-474E-BBAC-65FE54E1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E03EF3-3662-4D8F-9615-59656C06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957D0F-AE70-4A7A-9D5A-C70A96C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2B707B-1056-48EC-99DB-1CC7D8EC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8F0A12-E3C9-4CEB-813A-61F4F885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3A8B43-D06F-4464-AF3B-AEB901C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740187-4E16-4AD4-AC1C-4DDE45F2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95F7D4-F60A-410C-BA45-7396E438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F4D2A1-821F-4929-84B2-2110BE81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01DCC3-CC93-4ED6-B486-83F40E92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EE671-20E8-4B2B-B309-BEF7A7D8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20F78B-A222-4813-B380-58612886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3EB0987-F77D-4C97-BD58-D139534D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8FCB9B-6AC3-4A81-94DE-15DBD3C1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7C1BAB-6A67-41B2-B4B2-B1DC4D54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AAFCD4-26D4-42B0-98DA-A33E70C3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540951-6C42-4EB8-B430-2C322A96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43F127-DB27-4523-9C3B-4CDB66FF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85F482-0814-4600-A6C4-49F2C70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C2003A-A6EE-40C3-9E6C-32A3C2D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EDD3EE-DD3C-48C1-874E-C094490F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DA18D-7E8B-4460-BC84-AF2AC692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52C507-11B3-4C85-97BE-82EE2D71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E7ADA4-B743-467B-AB3B-2C256684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3BBD13-B350-4CDC-8C8C-395E5F8B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DF5D08-A7CC-4550-9CF0-CC82B5AA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B5F8AD-79FA-4CFE-A330-2B75410B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18DBB6-17DD-48FF-8084-2C28BE32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82F1B2-86FA-4FC7-A1F9-99598406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A24BDB-0278-4323-B0B8-2243ADF3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776B25-BD70-445D-945A-CE9A4713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7FEAB4-54A1-4A55-9B9A-27B9338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CF0E3-B236-4198-BBFB-CC21507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62C771-4467-4C42-842E-FD7A1F8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346BD0-0FB7-4C9B-B471-7D599F1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0BD9E2-7E65-4D37-82B0-EBCDFF66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EEBAE8-FBF1-4B0A-8F49-F7C24095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49893A-B706-4A68-B58B-26643C2E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887B68A-CC6B-4C28-A345-A28A2AEF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17AE5D-22A0-4382-8729-1F437522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BF27DB7-D46A-4EB4-B255-D8BE35F5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251B36-6E2B-4FCA-A907-B847A78F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3CDA5E-F0A2-484E-AB11-B668DA7C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ED46C-BDB2-47BF-85B8-045036C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CA0C78F-F8B1-4310-A832-40741858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8B4D5AC-C26E-435A-A4E1-BD0E2ED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1CD019-FA05-4ADF-853D-21325AEE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30F6568-FB03-4FE2-97CD-9AF03977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59875E0-A27C-4488-8D14-65E8C1EF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545373-5372-452B-A58A-477EEA22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F3D006C-0BAF-421D-88D4-228B6FC3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7EAA5D-A843-4515-A27E-61C02340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225785-0562-4A43-9187-9DFD3356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E8A29E-90B1-4C05-861B-B1FF1D45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08E7C-E68B-4520-AF90-F4F77F42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58DB38-B763-4F45-8AE0-723CEC1C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BFD6A7-FCAA-4A42-8FE2-5BFAA176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3D6E57-27F4-4763-8324-E8713909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D0581EE-27EA-48D4-BEB3-C7F451BF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8D6B86-37A0-47D7-996C-06F70900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EDDA04-53E2-48C6-9128-FFCCFDBF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CE7272-85FF-4019-AAB1-8C2BDA7A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86F322-9285-444E-8A06-F2B539B9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E5CA9D-62D4-403A-9636-CF5756CB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B8D183-3191-4E7E-954B-EE238728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F3FF9-0997-41FC-AE21-2D9E4640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0C7ACD3-A91B-4211-8F48-AA4059A8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F072AD-B45C-45CA-945C-697923CD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E5A54B-6DEC-4126-B07C-A13F13DB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CA3FA0D-EFDC-4DDE-9507-2819599E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65EF54E-C7F5-4166-A76B-90EFFEBD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FAC6EAA-8CF1-43F5-A8F4-90CA8ED4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655874D-58AE-4014-B189-ACABE876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39CA42-74EA-43C4-9DB0-603B7056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C08C559-CE65-4BFE-90E7-12F66484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3575A7-F0F7-4DCA-8E18-D18709D1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497F4-8058-4171-B785-F6AE1BA8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8A71E0-B7E1-4B24-B41F-41924A8A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D1701CB-773A-4071-A2EF-4CA53D01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C8C14FB-915A-41A9-BB0A-85BAAD8A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07EF69-03FC-45C9-8225-E8538948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C01FD4-EC07-490C-8EFB-1F7596D1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A1E0EE-73E9-483A-9F95-B8451540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0B64C7-5E0C-4E33-A456-425F8999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C1DA33-B537-47BE-AE7C-67D941DA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15616BA-423A-4951-8254-F70C4EE2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9AEC55-E42E-4657-A1B8-00DF0A78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7718AA-EC36-4B24-8BF4-58B28C45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901D080-5D74-4709-9304-A3674D9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C707D3C-6E91-4F7F-8C9D-BC2F9176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480908-47F7-4CD2-9802-32FC08ED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1F969D1-4FD2-4228-880F-3C882102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FD093BB-98CD-472A-9F93-C0953D0D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CE1295-3165-4CCE-97C8-10534D73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5258DB1-7CA7-46CA-880B-EF60D4E5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3F4331E-A9C8-46EC-A844-BF50A91B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962B1D7-8A64-4B45-996E-547C19FC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584088D-6793-401E-8D1C-0B03337B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1EC86-6789-4A34-BD1D-67D6BC5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C97BA80-684B-4DB6-BE23-022A5FA5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1D0DBC-AA8F-4457-BE4F-DA8BF0B8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B06A9D-41F2-4BB9-A9A9-076A8D33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5AD0FE3-5F1C-4301-83CF-8D65BBC1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2134DD3-7EB6-4B83-AE7B-F75CC5A8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C092C1F-075D-42B5-AAF7-0C3BEF7D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D277C3-8D46-4667-882A-1B011871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54CC0D7-8DC1-4F32-A47B-450D4058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AF38B46-0D25-4A5B-AEBF-61C15EB6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AE3A37-68DE-41D8-A1F2-0AA47139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EEB78-9F28-436B-89A6-C74CAEB9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94984EE-7F0E-44D1-B40E-3EB3ABF3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24C4AB1-7C81-4CD6-9803-356F2E0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23BFED6-71A8-4020-9861-1B256F91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082CC2-80FE-4B5A-A7A6-2DCDCA53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A28DBD8-3BFE-4CC5-95D0-01C8EC91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C49AD3F-0CCE-418A-B48D-DBC0C98B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BEA60AF-1D27-44DB-B88C-C23BBD01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A7EC82B-B419-4480-A2A3-00588666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E842213-6C0D-4D7B-B9F2-8C3B7978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FD0ACDF-C454-4DD0-BF7A-76EBB981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526F5-DC3D-48A8-8261-04F33849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5B0C2A3-92A6-4D3F-A12F-75981679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4D7487C-134F-4D1B-B126-874EEE91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706E71A-D892-4559-9C1A-13B6C5DA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F2E3C4F-80A9-47B4-A7A1-08844464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F8C10C7-339B-44BB-B9A8-CD860540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688C822-BBCA-49FB-9FA8-13E917FA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7E531D5-0640-4856-8B6E-ED121E87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89EBB4E-AC48-4083-B1B1-BB47FFE4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D82693-54BA-47E2-84C5-FA376489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C63CEE7-765B-4B50-A723-DC966589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C388C-76D5-43A6-9A0D-197B8472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83D330A-8EE4-45AC-AA5D-6985833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D6D7822-F25C-42B0-BDB2-4144C579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DBECF09-4F6A-4AAB-9D2A-345007AA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6522E5-B6F9-4185-B7EE-9FA8AA2F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D545029-FECE-4CA2-9A19-2E0D5248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73ACBB-DC35-4A9F-B9D1-FF9590E3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560D6D-15BE-4396-BE23-A182E66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1336E5-2711-4FAC-819F-792F841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B5AB81-674C-4E28-B1BA-AC479B60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6EB2E24-6B66-4E23-9561-368D864C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FDFEC-6777-40AE-A4DA-8168AD83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7463696-78D2-4DAE-8226-F16FA997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3329C24-166B-4082-A7BB-6B0B7F31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A7C5560-5A21-4531-948C-ECCBC51E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5B51585-52E5-4407-9568-89F2ADF3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5E03DDA-99F2-411D-B57E-3F7A98AB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4FF41F0-3F4E-41B0-92EE-8EF7837C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80DD564-8C7A-43CB-9EAD-122EF0C7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37B9F43-9C86-416D-BC8B-EED5EBC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11B8709-6B6B-4753-BAD2-2C4B2DE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B8C5C7-0CDA-47EE-816B-F995E3B2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7E7C31-A4AE-4F88-9F99-3E7F45EB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51D3DF7-130F-444F-9201-1AF00282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E676DAB-BEC8-4CD2-A33E-F2771665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2704A6C-424D-4583-9688-5ECEF622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070537-92AF-4EC1-A339-13B3D328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F9754-49E3-4136-882F-FA50F65C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B06E8-E3CE-4EBB-8CD7-1F1B8D8E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EA5BC-BD77-43BC-B100-1CA666F4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3F80E-8B82-4F3E-897E-92209591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1E0CB-9EC5-45D8-894A-0C0AC735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5C6BE-04FA-45ED-8758-E5A6C0E5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56B90-CA98-4F5A-862A-0ED67172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573875-3619-4C41-B9AD-4463FF81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53F90-1292-42BE-89CB-47C1D511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4B118-BDB7-429D-BE7E-99701626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8CF54-3C6C-411F-BAE0-A7576E48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9A88B-8BF0-4463-B654-2866C425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61FC7D-3879-4932-B35B-5ADCB2E5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34358-F3B6-422F-8E4C-010AC79D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E72F84-DA9D-4693-B51F-A1D15ACF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7E950-7D52-44EE-B33C-47607A6B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329C81-13B0-410C-892A-02458D4D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FC5553-69F2-4E85-BDDC-CDA52569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CFCBB9-58A9-45CD-8AE7-608AE65C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B9412-9F25-4931-98D9-C30C2594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862735-5D5C-49AA-9632-0F4B843C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16CD41-4D27-4BA8-9CA0-4A0070CF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AF2F8-080D-404F-B1B8-FF7C0CA5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BD2E26-9A89-4CA9-8231-A841E32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D6AB41-4E8C-4195-A480-0E9859A3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C8D06D-CE34-41DD-AFF8-8E1B94E6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64E8E3-554D-4A17-B643-607AEF8D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F50492-FB7B-4A70-8829-F0249E31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EA4BC0-5364-480C-AC8F-09089BF8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39458-6945-4A7D-9705-5529B435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9104D-1E77-4B53-B1AD-AB33EED5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859FE4-447E-48FE-9C7B-8A63F5B0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C4F13C-6154-4DA2-B340-A14FC0CA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8A48AA-2EDD-4E8B-AED2-4BB705B0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956E7F-837C-404E-A439-C4FD9EEB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406A6A-A1EA-4F64-8B9F-A3B5A2AA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B55C80-6444-45FD-9AE0-F92BBBC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3DCD00-7714-433C-A587-63C83B8F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37EC3F-84CF-456E-9796-621BC827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359150-69BC-406A-A473-9416E220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6C41CE-1809-4E13-A296-2A9A0DC7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31530A-71D0-4EF1-AF90-0ECADFED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B002E7-7692-45C8-9084-BCE87B39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9E54DF-C68E-4094-8C86-A9586F3E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F820DF-2266-44B5-B9AC-678270DE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36600" y="198360"/>
            <a:ext cx="57355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18CF1D-101E-42BB-93CD-36E0CFD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BC077-B0D7-46C1-B749-74A6F6B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1AB157-BC19-4B75-A2B1-0C76355F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893956-F24E-43F8-9ADC-7A705371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9840" y="3661200"/>
            <a:ext cx="900108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29C8E-9331-4755-BC50-EB620951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42160" y="83772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984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42160" y="3661200"/>
            <a:ext cx="439236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DD3B34-524E-41AD-A01B-2B96C2B1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7328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16360" y="83772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2984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7328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16360" y="3661200"/>
            <a:ext cx="28980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255F9-6230-47D4-8DC0-EF68A45C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8CC0E8-EE38-4701-B7A7-373AC700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25E6E8-26BD-43D9-AC27-108C9C8D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36600" y="169200"/>
            <a:ext cx="573552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0093CC-A22A-4741-B690-0D8908BA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4" name="Picture 21" descr="jive02"/>
          <p:cNvPicPr/>
          <p:nvPr/>
        </p:nvPicPr>
        <p:blipFill>
          <a:blip r:embed="rId2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335040" y="63813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" name="Picture 23" descr="RadioNet_Logo_1000"/>
          <p:cNvPicPr/>
          <p:nvPr/>
        </p:nvPicPr>
        <p:blipFill>
          <a:blip r:embed="rId3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7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" name="Picture 21" descr="jive02"/>
          <p:cNvPicPr/>
          <p:nvPr/>
        </p:nvPicPr>
        <p:blipFill>
          <a:blip r:embed="rId4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3" descr="RadioNet_Logo_1000"/>
          <p:cNvPicPr/>
          <p:nvPr/>
        </p:nvPicPr>
        <p:blipFill>
          <a:blip r:embed="rId5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0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" name="Picture 21" descr="jive02"/>
          <p:cNvPicPr/>
          <p:nvPr/>
        </p:nvPicPr>
        <p:blipFill>
          <a:blip r:embed="rId6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3" descr="RadioNet_Logo_1000"/>
          <p:cNvPicPr/>
          <p:nvPr/>
        </p:nvPicPr>
        <p:blipFill>
          <a:blip r:embed="rId7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4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5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BC16-09AF-4281-89A9-7CF884CEC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7022-0BEA-42D0-9A57-F6F32F9A1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9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0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1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F7D2-27CF-456E-BB43-9B48A2049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DEB4-B405-4130-9292-2E8B83634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947A-52BB-4B9A-AFD9-5C6CB7DCD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FA0C-61CE-4291-8F25-65DAFC788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0FF3-F7BD-4C58-8791-3FD28F6E9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4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5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6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2655-F7CB-4F3E-B502-1A6F62BBB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4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48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49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874A-53FB-4A74-A113-4A3BCBFA6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1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2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562B-98CE-496F-BBA9-5CD57A06D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8E707-C9BF-40EA-9BD0-6391CFF20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4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5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5B4C-89AA-45A5-8E2C-21592570B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6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7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58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EE32-4384-4439-AD43-AE8ACA167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59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60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61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BC97-5DE3-44E0-99EC-96853FE34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2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3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4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CD2F-D431-434A-AF2F-D99BF9A21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6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6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6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EB2C-CDFC-4B17-886B-1EB368D91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7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EEE4-251B-4AFF-B646-947AB35D1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7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7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7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3F10-A2A7-417D-928E-E9AC008AA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B745D-6AA7-484A-884A-9A3BFB309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4" name="Picture 21" descr="jive02"/>
          <p:cNvPicPr/>
          <p:nvPr/>
        </p:nvPicPr>
        <p:blipFill>
          <a:blip r:embed="rId2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RadioNet_Logo_1000"/>
          <p:cNvPicPr/>
          <p:nvPr/>
        </p:nvPicPr>
        <p:blipFill>
          <a:blip r:embed="rId3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6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7" name="Picture 21" descr="jive02"/>
          <p:cNvPicPr/>
          <p:nvPr/>
        </p:nvPicPr>
        <p:blipFill>
          <a:blip r:embed="rId4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adioNet_Logo_1000"/>
          <p:cNvPicPr/>
          <p:nvPr/>
        </p:nvPicPr>
        <p:blipFill>
          <a:blip r:embed="rId5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39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0" name="Picture 21" descr="jive02"/>
          <p:cNvPicPr/>
          <p:nvPr/>
        </p:nvPicPr>
        <p:blipFill>
          <a:blip r:embed="rId6"/>
          <a:stretch/>
        </p:blipFill>
        <p:spPr>
          <a:xfrm>
            <a:off x="7916760" y="6297480"/>
            <a:ext cx="1749600" cy="56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RadioNet_Logo_1000"/>
          <p:cNvPicPr/>
          <p:nvPr/>
        </p:nvPicPr>
        <p:blipFill>
          <a:blip r:embed="rId7"/>
          <a:stretch/>
        </p:blipFill>
        <p:spPr>
          <a:xfrm>
            <a:off x="204840" y="6284880"/>
            <a:ext cx="1477800" cy="573120"/>
          </a:xfrm>
          <a:prstGeom prst="rect">
            <a:avLst/>
          </a:prstGeom>
          <a:ln w="0">
            <a:noFill/>
          </a:ln>
        </p:spPr>
      </p:pic>
      <p:sp>
        <p:nvSpPr>
          <p:cNvPr id="142" name="Line 24"/>
          <p:cNvSpPr/>
          <p:nvPr/>
        </p:nvSpPr>
        <p:spPr>
          <a:xfrm flipV="1">
            <a:off x="380880" y="759960"/>
            <a:ext cx="9039240" cy="180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8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9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0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39EA-E476-4C10-AE56-96704728F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2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3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6D55-8BBF-493C-8D25-8E61D9517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4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5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6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9014-5EE0-4F47-A2F4-468ED709E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8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9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240E-79FD-4FEE-84D9-932F25FA0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1"/>
          </p:nvPr>
        </p:nvSpPr>
        <p:spPr>
          <a:xfrm>
            <a:off x="3382920" y="6356520"/>
            <a:ext cx="313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2"/>
          </p:nvPr>
        </p:nvSpPr>
        <p:spPr>
          <a:xfrm>
            <a:off x="70977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34DB-A691-45CB-935A-640E46D93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3"/>
          <p:cNvSpPr/>
          <p:nvPr/>
        </p:nvSpPr>
        <p:spPr>
          <a:xfrm>
            <a:off x="330120" y="5743440"/>
            <a:ext cx="48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nathan Hargreaves, JIV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8" name="Rectangle 4"/>
          <p:cNvSpPr/>
          <p:nvPr/>
        </p:nvSpPr>
        <p:spPr>
          <a:xfrm>
            <a:off x="1401840" y="270000"/>
            <a:ext cx="1839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9" name="Text Box 6"/>
          <p:cNvSpPr/>
          <p:nvPr/>
        </p:nvSpPr>
        <p:spPr>
          <a:xfrm>
            <a:off x="1881360" y="1515960"/>
            <a:ext cx="61164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JIVE UniBoard Correlator External Review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September 2014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2992320" y="2965320"/>
            <a:ext cx="185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91" name="Picture 14" descr="FP7-gen-RGB"/>
          <p:cNvPicPr/>
          <p:nvPr/>
        </p:nvPicPr>
        <p:blipFill>
          <a:blip r:embed="rId1"/>
          <a:stretch/>
        </p:blipFill>
        <p:spPr>
          <a:xfrm>
            <a:off x="8282160" y="0"/>
            <a:ext cx="1620720" cy="1317600"/>
          </a:xfrm>
          <a:prstGeom prst="rect">
            <a:avLst/>
          </a:prstGeom>
          <a:ln w="0">
            <a:noFill/>
          </a:ln>
        </p:spPr>
      </p:pic>
      <p:sp>
        <p:nvSpPr>
          <p:cNvPr id="1092" name="Footer Placeholder 1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PFB Architectur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91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92" name="Content Placeholder 4" descr="poly1.png"/>
          <p:cNvPicPr/>
          <p:nvPr/>
        </p:nvPicPr>
        <p:blipFill>
          <a:blip r:embed="rId1"/>
          <a:srcRect l="0" t="-18117" r="0" b="-18117"/>
          <a:stretch/>
        </p:blipFill>
        <p:spPr>
          <a:xfrm>
            <a:off x="658800" y="888840"/>
            <a:ext cx="8548560" cy="41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PFB Window Func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94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95" name="Content Placeholder 2" descr="fft_output_2k_6taps_raw_vs_kaiser0p5_vs_blackman_harris_zoomed.jpg"/>
          <p:cNvPicPr/>
          <p:nvPr/>
        </p:nvPicPr>
        <p:blipFill>
          <a:blip r:embed="rId1"/>
          <a:srcRect l="-15931" t="0" r="-15931" b="0"/>
          <a:stretch/>
        </p:blipFill>
        <p:spPr>
          <a:xfrm>
            <a:off x="430200" y="876240"/>
            <a:ext cx="8937720" cy="53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Delay Model Evalua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97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198" name="Group 85"/>
          <p:cNvGrpSpPr/>
          <p:nvPr/>
        </p:nvGrpSpPr>
        <p:grpSpPr>
          <a:xfrm>
            <a:off x="1612800" y="990720"/>
            <a:ext cx="6566040" cy="2984400"/>
            <a:chOff x="1612800" y="990720"/>
            <a:chExt cx="6566040" cy="2984400"/>
          </a:xfrm>
        </p:grpSpPr>
        <p:sp>
          <p:nvSpPr>
            <p:cNvPr id="1199" name="Rectangle 86"/>
            <p:cNvSpPr/>
            <p:nvPr/>
          </p:nvSpPr>
          <p:spPr>
            <a:xfrm>
              <a:off x="5980320" y="1079280"/>
              <a:ext cx="231480" cy="22161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0" name="Text Box 832"/>
            <p:cNvSpPr/>
            <p:nvPr/>
          </p:nvSpPr>
          <p:spPr>
            <a:xfrm>
              <a:off x="3560760" y="1222200"/>
              <a:ext cx="595080" cy="94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</a:t>
              </a:r>
              <a:r>
                <a:rPr b="0" lang="en-US" sz="1000" spc="-1" strike="noStrike" baseline="-25000">
                  <a:solidFill>
                    <a:srgbClr val="0033cc"/>
                  </a:solidFill>
                  <a:latin typeface="Times New Roman"/>
                  <a:ea typeface="Arial"/>
                </a:rPr>
                <a:t>0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Fifo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 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1" name="Text Box 833"/>
            <p:cNvSpPr/>
            <p:nvPr/>
          </p:nvSpPr>
          <p:spPr>
            <a:xfrm>
              <a:off x="5991120" y="1590840"/>
              <a:ext cx="199800" cy="995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</a:t>
              </a:r>
              <a:r>
                <a:rPr b="0" lang="en-US" sz="1000" spc="-1" strike="noStrike" baseline="-25000">
                  <a:solidFill>
                    <a:srgbClr val="0033cc"/>
                  </a:solidFill>
                  <a:latin typeface="Times New Roman"/>
                  <a:ea typeface="Arial"/>
                </a:rPr>
                <a:t>0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2" name="Text Box 834"/>
            <p:cNvSpPr/>
            <p:nvPr/>
          </p:nvSpPr>
          <p:spPr>
            <a:xfrm>
              <a:off x="4781520" y="2300400"/>
              <a:ext cx="201600" cy="985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</a:t>
              </a:r>
              <a:r>
                <a:rPr b="0" lang="en-US" sz="1000" spc="-1" strike="noStrike" baseline="-25000">
                  <a:solidFill>
                    <a:srgbClr val="0033cc"/>
                  </a:solidFill>
                  <a:latin typeface="Times New Roman"/>
                  <a:ea typeface="Arial"/>
                </a:rPr>
                <a:t>1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3" name="Oval 90"/>
            <p:cNvSpPr/>
            <p:nvPr/>
          </p:nvSpPr>
          <p:spPr>
            <a:xfrm>
              <a:off x="5292720" y="2605320"/>
              <a:ext cx="349200" cy="4460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4" name="Line 843"/>
            <p:cNvSpPr/>
            <p:nvPr/>
          </p:nvSpPr>
          <p:spPr>
            <a:xfrm flipV="1">
              <a:off x="2145960" y="2206440"/>
              <a:ext cx="587160" cy="126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5" name="Line 844"/>
            <p:cNvSpPr/>
            <p:nvPr/>
          </p:nvSpPr>
          <p:spPr>
            <a:xfrm>
              <a:off x="4981680" y="2816280"/>
              <a:ext cx="311040" cy="9360"/>
            </a:xfrm>
            <a:prstGeom prst="line">
              <a:avLst/>
            </a:prstGeom>
            <a:ln w="18360">
              <a:solidFill>
                <a:srgbClr val="f7964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6" name="Line 847"/>
            <p:cNvSpPr/>
            <p:nvPr/>
          </p:nvSpPr>
          <p:spPr>
            <a:xfrm flipV="1">
              <a:off x="4170240" y="2723760"/>
              <a:ext cx="610920" cy="4680"/>
            </a:xfrm>
            <a:prstGeom prst="line">
              <a:avLst/>
            </a:prstGeom>
            <a:ln w="18360">
              <a:solidFill>
                <a:srgbClr val="56ff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7" name="Line 849"/>
            <p:cNvSpPr/>
            <p:nvPr/>
          </p:nvSpPr>
          <p:spPr>
            <a:xfrm flipV="1">
              <a:off x="4184640" y="1682640"/>
              <a:ext cx="1774800" cy="9360"/>
            </a:xfrm>
            <a:prstGeom prst="line">
              <a:avLst/>
            </a:prstGeom>
            <a:ln w="18360">
              <a:solidFill>
                <a:srgbClr val="56ff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8" name="Line 853"/>
            <p:cNvSpPr/>
            <p:nvPr/>
          </p:nvSpPr>
          <p:spPr>
            <a:xfrm flipV="1">
              <a:off x="5483160" y="3060360"/>
              <a:ext cx="0" cy="399960"/>
            </a:xfrm>
            <a:prstGeom prst="line">
              <a:avLst/>
            </a:prstGeom>
            <a:ln w="18360">
              <a:solidFill>
                <a:srgbClr val="009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09" name="Line 859"/>
            <p:cNvSpPr/>
            <p:nvPr/>
          </p:nvSpPr>
          <p:spPr>
            <a:xfrm>
              <a:off x="7196400" y="1546200"/>
              <a:ext cx="9824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0" name="Line 860"/>
            <p:cNvSpPr/>
            <p:nvPr/>
          </p:nvSpPr>
          <p:spPr>
            <a:xfrm>
              <a:off x="6218280" y="2130480"/>
              <a:ext cx="331560" cy="0"/>
            </a:xfrm>
            <a:prstGeom prst="line">
              <a:avLst/>
            </a:prstGeom>
            <a:ln w="18360">
              <a:solidFill>
                <a:srgbClr val="009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1" name="Line 861"/>
            <p:cNvSpPr/>
            <p:nvPr/>
          </p:nvSpPr>
          <p:spPr>
            <a:xfrm>
              <a:off x="5645160" y="2836800"/>
              <a:ext cx="334800" cy="1440"/>
            </a:xfrm>
            <a:prstGeom prst="line">
              <a:avLst/>
            </a:prstGeom>
            <a:ln w="18360">
              <a:solidFill>
                <a:srgbClr val="f7964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2" name="Text Box 869"/>
            <p:cNvSpPr/>
            <p:nvPr/>
          </p:nvSpPr>
          <p:spPr>
            <a:xfrm>
              <a:off x="1612800" y="1665360"/>
              <a:ext cx="517320" cy="1173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1Gb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port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3" name="Text Box 873"/>
            <p:cNvSpPr/>
            <p:nvPr/>
          </p:nvSpPr>
          <p:spPr>
            <a:xfrm>
              <a:off x="4606920" y="3338640"/>
              <a:ext cx="4762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elay rate regist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4" name="Text Box 877"/>
            <p:cNvSpPr/>
            <p:nvPr/>
          </p:nvSpPr>
          <p:spPr>
            <a:xfrm>
              <a:off x="7291440" y="1117440"/>
              <a:ext cx="6588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Integer sample delay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5" name="Text Box 878"/>
            <p:cNvSpPr/>
            <p:nvPr/>
          </p:nvSpPr>
          <p:spPr>
            <a:xfrm>
              <a:off x="2187360" y="1565280"/>
              <a:ext cx="5061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UDP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Offload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32 bits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6" name="Text Box 927"/>
            <p:cNvSpPr/>
            <p:nvPr/>
          </p:nvSpPr>
          <p:spPr>
            <a:xfrm>
              <a:off x="2739960" y="1214280"/>
              <a:ext cx="542880" cy="207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Packet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ecod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7" name="Line 933"/>
            <p:cNvSpPr/>
            <p:nvPr/>
          </p:nvSpPr>
          <p:spPr>
            <a:xfrm>
              <a:off x="3276360" y="1711440"/>
              <a:ext cx="2714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8" name="Line 933"/>
            <p:cNvSpPr/>
            <p:nvPr/>
          </p:nvSpPr>
          <p:spPr>
            <a:xfrm>
              <a:off x="3286080" y="2716200"/>
              <a:ext cx="2728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19" name="Text Box 832"/>
            <p:cNvSpPr/>
            <p:nvPr/>
          </p:nvSpPr>
          <p:spPr>
            <a:xfrm>
              <a:off x="3560760" y="2300400"/>
              <a:ext cx="595080" cy="973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</a:t>
              </a:r>
              <a:r>
                <a:rPr b="0" lang="en-US" sz="1000" spc="-1" strike="noStrike" baseline="-25000">
                  <a:solidFill>
                    <a:srgbClr val="0033cc"/>
                  </a:solidFill>
                  <a:latin typeface="Times New Roman"/>
                  <a:ea typeface="Arial"/>
                </a:rPr>
                <a:t>1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Fifo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 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0" name="Line 860"/>
            <p:cNvSpPr/>
            <p:nvPr/>
          </p:nvSpPr>
          <p:spPr>
            <a:xfrm>
              <a:off x="5483160" y="3461040"/>
              <a:ext cx="1066680" cy="0"/>
            </a:xfrm>
            <a:prstGeom prst="line">
              <a:avLst/>
            </a:prstGeom>
            <a:ln w="18360">
              <a:solidFill>
                <a:srgbClr val="009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1" name="Line 860"/>
            <p:cNvSpPr/>
            <p:nvPr/>
          </p:nvSpPr>
          <p:spPr>
            <a:xfrm>
              <a:off x="6550200" y="2127240"/>
              <a:ext cx="0" cy="1349280"/>
            </a:xfrm>
            <a:prstGeom prst="line">
              <a:avLst/>
            </a:prstGeom>
            <a:ln w="18360">
              <a:solidFill>
                <a:srgbClr val="009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2" name="Text Box 873"/>
            <p:cNvSpPr/>
            <p:nvPr/>
          </p:nvSpPr>
          <p:spPr>
            <a:xfrm>
              <a:off x="6970680" y="2441520"/>
              <a:ext cx="907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Output taps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3" name="Text Box 877"/>
            <p:cNvSpPr/>
            <p:nvPr/>
          </p:nvSpPr>
          <p:spPr>
            <a:xfrm>
              <a:off x="7283520" y="1754280"/>
              <a:ext cx="6588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Fractional sample delay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4" name="Line 859"/>
            <p:cNvSpPr/>
            <p:nvPr/>
          </p:nvSpPr>
          <p:spPr>
            <a:xfrm>
              <a:off x="7189920" y="2162160"/>
              <a:ext cx="98244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5" name="Text Box 873"/>
            <p:cNvSpPr/>
            <p:nvPr/>
          </p:nvSpPr>
          <p:spPr>
            <a:xfrm>
              <a:off x="5005440" y="3132360"/>
              <a:ext cx="1713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6" name="Text Box 873"/>
            <p:cNvSpPr/>
            <p:nvPr/>
          </p:nvSpPr>
          <p:spPr>
            <a:xfrm>
              <a:off x="6228000" y="3164040"/>
              <a:ext cx="1713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7" name="Text Box 873"/>
            <p:cNvSpPr/>
            <p:nvPr/>
          </p:nvSpPr>
          <p:spPr>
            <a:xfrm>
              <a:off x="5005440" y="2219400"/>
              <a:ext cx="2095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31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8" name="Text Box 873"/>
            <p:cNvSpPr/>
            <p:nvPr/>
          </p:nvSpPr>
          <p:spPr>
            <a:xfrm>
              <a:off x="6222960" y="1023840"/>
              <a:ext cx="209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59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29" name="Text Box 873"/>
            <p:cNvSpPr/>
            <p:nvPr/>
          </p:nvSpPr>
          <p:spPr>
            <a:xfrm>
              <a:off x="6228000" y="1531800"/>
              <a:ext cx="2095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51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0" name="Text Box 873"/>
            <p:cNvSpPr/>
            <p:nvPr/>
          </p:nvSpPr>
          <p:spPr>
            <a:xfrm>
              <a:off x="6228000" y="2401920"/>
              <a:ext cx="2095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20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1" name="Right Bracket 118"/>
            <p:cNvSpPr/>
            <p:nvPr/>
          </p:nvSpPr>
          <p:spPr>
            <a:xfrm>
              <a:off x="6981840" y="1063440"/>
              <a:ext cx="171360" cy="958680"/>
            </a:xfrm>
            <a:custGeom>
              <a:avLst/>
              <a:gdLst>
                <a:gd name="textAreaLeft" fmla="*/ 0 w 171360"/>
                <a:gd name="textAreaRight" fmla="*/ 120240 w 171360"/>
                <a:gd name="textAreaTop" fmla="*/ 7920 h 958680"/>
                <a:gd name="textAreaBottom" fmla="*/ 95076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83"/>
                    <a:pt x="21600" y="365"/>
                  </a:cubicBezTo>
                  <a:lnTo>
                    <a:pt x="21600" y="21235"/>
                  </a:lnTo>
                  <a:cubicBezTo>
                    <a:pt x="21600" y="21418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618ffd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2" name="Right Bracket 119"/>
            <p:cNvSpPr/>
            <p:nvPr/>
          </p:nvSpPr>
          <p:spPr>
            <a:xfrm>
              <a:off x="6981840" y="2028960"/>
              <a:ext cx="171360" cy="296640"/>
            </a:xfrm>
            <a:custGeom>
              <a:avLst/>
              <a:gdLst>
                <a:gd name="textAreaLeft" fmla="*/ 0 w 171360"/>
                <a:gd name="textAreaRight" fmla="*/ 120240 w 171360"/>
                <a:gd name="textAreaTop" fmla="*/ 7920 h 296640"/>
                <a:gd name="textAreaBottom" fmla="*/ 288720 h 29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90"/>
                    <a:pt x="21600" y="1180"/>
                  </a:cubicBezTo>
                  <a:lnTo>
                    <a:pt x="21600" y="20420"/>
                  </a:lnTo>
                  <a:cubicBezTo>
                    <a:pt x="21600" y="2101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618ffd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3" name="Text Box 873"/>
            <p:cNvSpPr/>
            <p:nvPr/>
          </p:nvSpPr>
          <p:spPr>
            <a:xfrm>
              <a:off x="6799320" y="990720"/>
              <a:ext cx="2095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59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4" name="Text Box 873"/>
            <p:cNvSpPr/>
            <p:nvPr/>
          </p:nvSpPr>
          <p:spPr>
            <a:xfrm>
              <a:off x="6810480" y="1874880"/>
              <a:ext cx="2095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28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5" name="Text Box 873"/>
            <p:cNvSpPr/>
            <p:nvPr/>
          </p:nvSpPr>
          <p:spPr>
            <a:xfrm>
              <a:off x="6810480" y="2028960"/>
              <a:ext cx="2095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27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6" name="Text Box 873"/>
            <p:cNvSpPr/>
            <p:nvPr/>
          </p:nvSpPr>
          <p:spPr>
            <a:xfrm>
              <a:off x="6818400" y="2203560"/>
              <a:ext cx="209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33cc"/>
                  </a:solidFill>
                  <a:latin typeface="Arial"/>
                  <a:ea typeface="Arial"/>
                </a:rPr>
                <a:t>24</a:t>
              </a:r>
              <a:endParaRPr b="0" lang="en-US" sz="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37" name="Text Box 873"/>
            <p:cNvSpPr/>
            <p:nvPr/>
          </p:nvSpPr>
          <p:spPr>
            <a:xfrm>
              <a:off x="5664240" y="3517920"/>
              <a:ext cx="833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Delay accumulator 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 txBox="1"/>
          <p:nvPr/>
        </p:nvSpPr>
        <p:spPr>
          <a:xfrm>
            <a:off x="429840" y="4152600"/>
            <a:ext cx="900108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set of coefficients is loaded at the start of every integ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s Delay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once per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set between delay and rate increase dynamic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fficients are currently 32 bits, will be 4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derivative coefficient is stored but not current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Delay Model Applica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ger (whole sample) part of the delay determines the address of the first sample in the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xt 8 bits are used to calculate a phase correction to the nearest 1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ction is applied to the frequency bins as they exit the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delay correction rolls over a whole sample during an integration, one sample is skipped or repeated and a 90 degree correction is applied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42" name="Content Placeholder 1" descr="sigflow_fn.png"/>
          <p:cNvPicPr/>
          <p:nvPr/>
        </p:nvPicPr>
        <p:blipFill>
          <a:blip r:embed="rId1"/>
          <a:srcRect l="0" t="-21113" r="0" b="-21113"/>
          <a:stretch/>
        </p:blipFill>
        <p:spPr>
          <a:xfrm>
            <a:off x="1027080" y="2552760"/>
            <a:ext cx="745164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Phase correc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29840" y="4800600"/>
            <a:ext cx="8993160" cy="14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s Phase = 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Σ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nce per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is applied in a quadrature mixer at the input to the polyphas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fficients currently 48 bits, will be 64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Group 5"/>
          <p:cNvGrpSpPr/>
          <p:nvPr/>
        </p:nvGrpSpPr>
        <p:grpSpPr>
          <a:xfrm>
            <a:off x="2314440" y="917640"/>
            <a:ext cx="4810320" cy="3527280"/>
            <a:chOff x="2314440" y="917640"/>
            <a:chExt cx="4810320" cy="3527280"/>
          </a:xfrm>
        </p:grpSpPr>
        <p:sp>
          <p:nvSpPr>
            <p:cNvPr id="1247" name="Rectangle 6"/>
            <p:cNvSpPr/>
            <p:nvPr/>
          </p:nvSpPr>
          <p:spPr>
            <a:xfrm>
              <a:off x="5742000" y="2602800"/>
              <a:ext cx="135000" cy="1122480"/>
            </a:xfrm>
            <a:prstGeom prst="rect">
              <a:avLst/>
            </a:prstGeom>
            <a:solidFill>
              <a:srgbClr val="999999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48" name="Rectangle 7"/>
            <p:cNvSpPr/>
            <p:nvPr/>
          </p:nvSpPr>
          <p:spPr>
            <a:xfrm>
              <a:off x="4856040" y="1766160"/>
              <a:ext cx="135000" cy="11224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49" name="Rectangle 8"/>
            <p:cNvSpPr/>
            <p:nvPr/>
          </p:nvSpPr>
          <p:spPr>
            <a:xfrm>
              <a:off x="3464280" y="917640"/>
              <a:ext cx="135000" cy="11224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0" name="Rectangle 9"/>
            <p:cNvSpPr/>
            <p:nvPr/>
          </p:nvSpPr>
          <p:spPr>
            <a:xfrm>
              <a:off x="3470040" y="2626920"/>
              <a:ext cx="135000" cy="112104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1" name="Rectangle 10"/>
            <p:cNvSpPr/>
            <p:nvPr/>
          </p:nvSpPr>
          <p:spPr>
            <a:xfrm>
              <a:off x="4856040" y="3101760"/>
              <a:ext cx="135000" cy="1122480"/>
            </a:xfrm>
            <a:prstGeom prst="rect">
              <a:avLst/>
            </a:prstGeom>
            <a:solidFill>
              <a:srgbClr val="56ff49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2" name="Rectangle 11"/>
            <p:cNvSpPr/>
            <p:nvPr/>
          </p:nvSpPr>
          <p:spPr>
            <a:xfrm>
              <a:off x="2658600" y="917640"/>
              <a:ext cx="135000" cy="1122480"/>
            </a:xfrm>
            <a:prstGeom prst="rect">
              <a:avLst/>
            </a:prstGeom>
            <a:solidFill>
              <a:srgbClr val="56ff49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 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3" name="Rectangle 12"/>
            <p:cNvSpPr/>
            <p:nvPr/>
          </p:nvSpPr>
          <p:spPr>
            <a:xfrm>
              <a:off x="2658600" y="2645280"/>
              <a:ext cx="135000" cy="1122480"/>
            </a:xfrm>
            <a:prstGeom prst="rect">
              <a:avLst/>
            </a:prstGeom>
            <a:solidFill>
              <a:srgbClr val="56ff49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4" name="Oval 13"/>
            <p:cNvSpPr/>
            <p:nvPr/>
          </p:nvSpPr>
          <p:spPr>
            <a:xfrm>
              <a:off x="5289480" y="3040560"/>
              <a:ext cx="272880" cy="232560"/>
            </a:xfrm>
            <a:prstGeom prst="ellipse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5" name="Oval 14"/>
            <p:cNvSpPr/>
            <p:nvPr/>
          </p:nvSpPr>
          <p:spPr>
            <a:xfrm>
              <a:off x="4387320" y="2222280"/>
              <a:ext cx="272880" cy="232560"/>
            </a:xfrm>
            <a:prstGeom prst="ellipse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6" name="Oval 15"/>
            <p:cNvSpPr/>
            <p:nvPr/>
          </p:nvSpPr>
          <p:spPr>
            <a:xfrm>
              <a:off x="3902040" y="2223720"/>
              <a:ext cx="272880" cy="232560"/>
            </a:xfrm>
            <a:prstGeom prst="ellipse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57" name="Oval 16"/>
            <p:cNvSpPr/>
            <p:nvPr/>
          </p:nvSpPr>
          <p:spPr>
            <a:xfrm>
              <a:off x="3005640" y="3087000"/>
              <a:ext cx="272880" cy="234000"/>
            </a:xfrm>
            <a:prstGeom prst="ellipse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58" name="Straight Arrow Connector 17"/>
            <p:cNvCxnSpPr/>
            <p:nvPr/>
          </p:nvCxnSpPr>
          <p:spPr>
            <a:xfrm>
              <a:off x="4991040" y="2879280"/>
              <a:ext cx="346320" cy="222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59" name="Straight Arrow Connector 18"/>
            <p:cNvCxnSpPr/>
            <p:nvPr/>
          </p:nvCxnSpPr>
          <p:spPr>
            <a:xfrm>
              <a:off x="5562360" y="316116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0" name="Straight Arrow Connector 19"/>
            <p:cNvCxnSpPr/>
            <p:nvPr/>
          </p:nvCxnSpPr>
          <p:spPr>
            <a:xfrm>
              <a:off x="2793600" y="321300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1" name="Straight Arrow Connector 20"/>
            <p:cNvCxnSpPr/>
            <p:nvPr/>
          </p:nvCxnSpPr>
          <p:spPr>
            <a:xfrm>
              <a:off x="3267000" y="321444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2" name="Straight Arrow Connector 21"/>
            <p:cNvCxnSpPr/>
            <p:nvPr/>
          </p:nvCxnSpPr>
          <p:spPr>
            <a:xfrm>
              <a:off x="4181040" y="233640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3" name="Straight Arrow Connector 22"/>
            <p:cNvCxnSpPr/>
            <p:nvPr/>
          </p:nvCxnSpPr>
          <p:spPr>
            <a:xfrm>
              <a:off x="4658760" y="234288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4" name="Straight Arrow Connector 23"/>
            <p:cNvCxnSpPr/>
            <p:nvPr/>
          </p:nvCxnSpPr>
          <p:spPr>
            <a:xfrm>
              <a:off x="3605040" y="2039760"/>
              <a:ext cx="344880" cy="222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5" name="Straight Arrow Connector 24"/>
            <p:cNvCxnSpPr/>
            <p:nvPr/>
          </p:nvCxnSpPr>
          <p:spPr>
            <a:xfrm flipV="1">
              <a:off x="4991040" y="3222360"/>
              <a:ext cx="346320" cy="24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6" name="Straight Arrow Connector 25"/>
            <p:cNvCxnSpPr/>
            <p:nvPr/>
          </p:nvCxnSpPr>
          <p:spPr>
            <a:xfrm flipV="1">
              <a:off x="3599280" y="2403000"/>
              <a:ext cx="344880" cy="24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7" name="Straight Arrow Connector 26"/>
            <p:cNvCxnSpPr/>
            <p:nvPr/>
          </p:nvCxnSpPr>
          <p:spPr>
            <a:xfrm flipV="1">
              <a:off x="2793240" y="1580400"/>
              <a:ext cx="306360" cy="1632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68" name="Oval 27"/>
            <p:cNvSpPr/>
            <p:nvPr/>
          </p:nvSpPr>
          <p:spPr>
            <a:xfrm>
              <a:off x="2981880" y="1348560"/>
              <a:ext cx="272880" cy="232560"/>
            </a:xfrm>
            <a:prstGeom prst="ellipse">
              <a:avLst/>
            </a:prstGeom>
            <a:solidFill>
              <a:srgbClr val="8eb4e3"/>
            </a:solidFill>
            <a:ln w="9360">
              <a:solidFill>
                <a:srgbClr val="5b8af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69" name="Straight Arrow Connector 28"/>
            <p:cNvCxnSpPr/>
            <p:nvPr/>
          </p:nvCxnSpPr>
          <p:spPr>
            <a:xfrm>
              <a:off x="2793600" y="146232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70" name="Straight Arrow Connector 29"/>
            <p:cNvCxnSpPr/>
            <p:nvPr/>
          </p:nvCxnSpPr>
          <p:spPr>
            <a:xfrm>
              <a:off x="3255120" y="1462320"/>
              <a:ext cx="2037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71" name="Straight Arrow Connector 30"/>
            <p:cNvCxnSpPr/>
            <p:nvPr/>
          </p:nvCxnSpPr>
          <p:spPr>
            <a:xfrm>
              <a:off x="3131640" y="2525760"/>
              <a:ext cx="1080" cy="564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72" name="Straight Arrow Connector 31"/>
            <p:cNvCxnSpPr/>
            <p:nvPr/>
          </p:nvCxnSpPr>
          <p:spPr>
            <a:xfrm flipV="1">
              <a:off x="3132000" y="2522160"/>
              <a:ext cx="463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273" name="Straight Arrow Connector 32"/>
            <p:cNvCxnSpPr/>
            <p:nvPr/>
          </p:nvCxnSpPr>
          <p:spPr>
            <a:xfrm flipH="1" flipV="1">
              <a:off x="3594960" y="2522520"/>
              <a:ext cx="10440" cy="120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274" name="Straight Arrow Connector 33"/>
            <p:cNvCxnSpPr/>
            <p:nvPr/>
          </p:nvCxnSpPr>
          <p:spPr>
            <a:xfrm flipH="1" flipV="1">
              <a:off x="4993920" y="2884320"/>
              <a:ext cx="9360" cy="118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275" name="Straight Arrow Connector 34"/>
            <p:cNvCxnSpPr/>
            <p:nvPr/>
          </p:nvCxnSpPr>
          <p:spPr>
            <a:xfrm flipV="1">
              <a:off x="4528080" y="3002400"/>
              <a:ext cx="463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276" name="Straight Arrow Connector 35"/>
            <p:cNvCxnSpPr/>
            <p:nvPr/>
          </p:nvCxnSpPr>
          <p:spPr>
            <a:xfrm flipV="1">
              <a:off x="4527720" y="2454840"/>
              <a:ext cx="1080" cy="548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77" name="Text Box 1836"/>
            <p:cNvSpPr/>
            <p:nvPr/>
          </p:nvSpPr>
          <p:spPr>
            <a:xfrm>
              <a:off x="3716640" y="2493720"/>
              <a:ext cx="34272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2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78" name="Text Box 1837"/>
            <p:cNvSpPr/>
            <p:nvPr/>
          </p:nvSpPr>
          <p:spPr>
            <a:xfrm>
              <a:off x="4633560" y="4239000"/>
              <a:ext cx="6688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gist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79" name="Text Box 1838"/>
            <p:cNvSpPr/>
            <p:nvPr/>
          </p:nvSpPr>
          <p:spPr>
            <a:xfrm>
              <a:off x="2412360" y="3798720"/>
              <a:ext cx="6688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gist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0" name="Text Box 1839"/>
            <p:cNvSpPr/>
            <p:nvPr/>
          </p:nvSpPr>
          <p:spPr>
            <a:xfrm>
              <a:off x="2314440" y="2062800"/>
              <a:ext cx="6688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gist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1" name="Right Bracket 40"/>
            <p:cNvSpPr/>
            <p:nvPr/>
          </p:nvSpPr>
          <p:spPr>
            <a:xfrm>
              <a:off x="6279120" y="2602800"/>
              <a:ext cx="135000" cy="276480"/>
            </a:xfrm>
            <a:custGeom>
              <a:avLst/>
              <a:gdLst>
                <a:gd name="textAreaLeft" fmla="*/ 0 w 135000"/>
                <a:gd name="textAreaRight" fmla="*/ 94680 w 135000"/>
                <a:gd name="textAreaTop" fmla="*/ 5040 h 276480"/>
                <a:gd name="textAreaBottom" fmla="*/ 271440 h 2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394"/>
                    <a:pt x="21600" y="787"/>
                  </a:cubicBezTo>
                  <a:lnTo>
                    <a:pt x="21600" y="20813"/>
                  </a:lnTo>
                  <a:cubicBezTo>
                    <a:pt x="21600" y="21207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618ffd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282" name="Straight Arrow Connector 41"/>
            <p:cNvCxnSpPr/>
            <p:nvPr/>
          </p:nvCxnSpPr>
          <p:spPr>
            <a:xfrm>
              <a:off x="6447960" y="2727360"/>
              <a:ext cx="677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83" name="Text Box 1842"/>
            <p:cNvSpPr/>
            <p:nvPr/>
          </p:nvSpPr>
          <p:spPr>
            <a:xfrm>
              <a:off x="6497280" y="2403360"/>
              <a:ext cx="5590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to mix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4"/>
          <p:cNvGrpSpPr/>
          <p:nvPr/>
        </p:nvGrpSpPr>
        <p:grpSpPr>
          <a:xfrm>
            <a:off x="44280" y="189000"/>
            <a:ext cx="9834840" cy="2612880"/>
            <a:chOff x="44280" y="189000"/>
            <a:chExt cx="9834840" cy="2612880"/>
          </a:xfrm>
        </p:grpSpPr>
        <p:sp>
          <p:nvSpPr>
            <p:cNvPr id="1285" name="Rectangle 5"/>
            <p:cNvSpPr/>
            <p:nvPr/>
          </p:nvSpPr>
          <p:spPr>
            <a:xfrm>
              <a:off x="843120" y="1028520"/>
              <a:ext cx="779760" cy="521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6" name="TextBox 6"/>
            <p:cNvSpPr/>
            <p:nvPr/>
          </p:nvSpPr>
          <p:spPr>
            <a:xfrm>
              <a:off x="1066320" y="116532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BI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7" name="Rectangle 8"/>
            <p:cNvSpPr/>
            <p:nvPr/>
          </p:nvSpPr>
          <p:spPr>
            <a:xfrm>
              <a:off x="2090160" y="1028520"/>
              <a:ext cx="779760" cy="5212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8" name="TextBox 9"/>
            <p:cNvSpPr/>
            <p:nvPr/>
          </p:nvSpPr>
          <p:spPr>
            <a:xfrm>
              <a:off x="2108880" y="116532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fram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89" name="Rectangle 11"/>
            <p:cNvSpPr/>
            <p:nvPr/>
          </p:nvSpPr>
          <p:spPr>
            <a:xfrm>
              <a:off x="3337200" y="1028520"/>
              <a:ext cx="779760" cy="5212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0" name="TextBox 12"/>
            <p:cNvSpPr/>
            <p:nvPr/>
          </p:nvSpPr>
          <p:spPr>
            <a:xfrm>
              <a:off x="3433680" y="1081440"/>
              <a:ext cx="599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rn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urner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1" name="Rectangle 14"/>
            <p:cNvSpPr/>
            <p:nvPr/>
          </p:nvSpPr>
          <p:spPr>
            <a:xfrm>
              <a:off x="4639320" y="1418040"/>
              <a:ext cx="779760" cy="52128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2" name="TextBox 15"/>
            <p:cNvSpPr/>
            <p:nvPr/>
          </p:nvSpPr>
          <p:spPr>
            <a:xfrm>
              <a:off x="4729680" y="1470600"/>
              <a:ext cx="61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Validity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ccu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3" name="Rectangle 17"/>
            <p:cNvSpPr/>
            <p:nvPr/>
          </p:nvSpPr>
          <p:spPr>
            <a:xfrm>
              <a:off x="4653000" y="646920"/>
              <a:ext cx="779760" cy="521280"/>
            </a:xfrm>
            <a:prstGeom prst="rect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4" name="TextBox 18"/>
            <p:cNvSpPr/>
            <p:nvPr/>
          </p:nvSpPr>
          <p:spPr>
            <a:xfrm>
              <a:off x="4590360" y="708480"/>
              <a:ext cx="894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rrelator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ngin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5" name="Rectangle 20"/>
            <p:cNvSpPr/>
            <p:nvPr/>
          </p:nvSpPr>
          <p:spPr>
            <a:xfrm>
              <a:off x="4639320" y="2280600"/>
              <a:ext cx="779760" cy="52128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6" name="TextBox 21"/>
            <p:cNvSpPr/>
            <p:nvPr/>
          </p:nvSpPr>
          <p:spPr>
            <a:xfrm>
              <a:off x="4762440" y="2417400"/>
              <a:ext cx="50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OPC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7" name="Rectangle 23"/>
            <p:cNvSpPr/>
            <p:nvPr/>
          </p:nvSpPr>
          <p:spPr>
            <a:xfrm>
              <a:off x="5913720" y="2280600"/>
              <a:ext cx="779760" cy="521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8" name="TextBox 24"/>
            <p:cNvSpPr/>
            <p:nvPr/>
          </p:nvSpPr>
          <p:spPr>
            <a:xfrm>
              <a:off x="5967000" y="241740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1Gb-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299" name="Rectangle 26"/>
            <p:cNvSpPr/>
            <p:nvPr/>
          </p:nvSpPr>
          <p:spPr>
            <a:xfrm>
              <a:off x="6553440" y="650520"/>
              <a:ext cx="779760" cy="5212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00" name="TextBox 27"/>
            <p:cNvSpPr/>
            <p:nvPr/>
          </p:nvSpPr>
          <p:spPr>
            <a:xfrm>
              <a:off x="6559920" y="787320"/>
              <a:ext cx="77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ormatt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01" name="Rectangle 29"/>
            <p:cNvSpPr/>
            <p:nvPr/>
          </p:nvSpPr>
          <p:spPr>
            <a:xfrm>
              <a:off x="7802640" y="650520"/>
              <a:ext cx="779760" cy="521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02" name="TextBox 30"/>
            <p:cNvSpPr/>
            <p:nvPr/>
          </p:nvSpPr>
          <p:spPr>
            <a:xfrm>
              <a:off x="7809120" y="78732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10Gb-Eth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03" name="Straight Arrow Connector 31"/>
            <p:cNvCxnSpPr/>
            <p:nvPr/>
          </p:nvCxnSpPr>
          <p:spPr>
            <a:xfrm flipV="1">
              <a:off x="1625760" y="1289520"/>
              <a:ext cx="46944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4" name="Straight Arrow Connector 32"/>
            <p:cNvCxnSpPr/>
            <p:nvPr/>
          </p:nvCxnSpPr>
          <p:spPr>
            <a:xfrm flipV="1">
              <a:off x="2863800" y="1283760"/>
              <a:ext cx="46944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5" name="Straight Arrow Connector 33"/>
            <p:cNvCxnSpPr/>
            <p:nvPr/>
          </p:nvCxnSpPr>
          <p:spPr>
            <a:xfrm flipV="1">
              <a:off x="520560" y="1289520"/>
              <a:ext cx="31572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6" name="Straight Arrow Connector 34"/>
            <p:cNvCxnSpPr/>
            <p:nvPr/>
          </p:nvCxnSpPr>
          <p:spPr>
            <a:xfrm flipV="1">
              <a:off x="7333920" y="900000"/>
              <a:ext cx="46944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7" name="Straight Arrow Connector 35"/>
            <p:cNvCxnSpPr/>
            <p:nvPr/>
          </p:nvCxnSpPr>
          <p:spPr>
            <a:xfrm flipV="1">
              <a:off x="3718080" y="707760"/>
              <a:ext cx="1080" cy="322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08" name="Elbow Connector 36"/>
            <p:cNvCxnSpPr/>
            <p:nvPr/>
          </p:nvCxnSpPr>
          <p:spPr>
            <a:xfrm flipV="1">
              <a:off x="4110120" y="910800"/>
              <a:ext cx="543960" cy="212400"/>
            </a:xfrm>
            <a:prstGeom prst="bentConnector3">
              <a:avLst>
                <a:gd name="adj1" fmla="val 50000"/>
              </a:avLst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309" name="Elbow Connector 37"/>
            <p:cNvCxnSpPr/>
            <p:nvPr/>
          </p:nvCxnSpPr>
          <p:spPr>
            <a:xfrm>
              <a:off x="4116960" y="1449360"/>
              <a:ext cx="523080" cy="229680"/>
            </a:xfrm>
            <a:prstGeom prst="bentConnector3">
              <a:avLst>
                <a:gd name="adj1" fmla="val 50000"/>
              </a:avLst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310" name="Straight Arrow Connector 38"/>
            <p:cNvCxnSpPr/>
            <p:nvPr/>
          </p:nvCxnSpPr>
          <p:spPr>
            <a:xfrm>
              <a:off x="5437080" y="908280"/>
              <a:ext cx="11145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1" name="Elbow Connector 39"/>
            <p:cNvCxnSpPr/>
            <p:nvPr/>
          </p:nvCxnSpPr>
          <p:spPr>
            <a:xfrm flipV="1">
              <a:off x="5417280" y="1071000"/>
              <a:ext cx="1127880" cy="613440"/>
            </a:xfrm>
            <a:prstGeom prst="bentConnector3">
              <a:avLst>
                <a:gd name="adj1" fmla="val 79278"/>
              </a:avLst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312" name="Elbow Connector 40"/>
            <p:cNvCxnSpPr/>
            <p:nvPr/>
          </p:nvCxnSpPr>
          <p:spPr>
            <a:xfrm flipH="1" rot="16200000">
              <a:off x="5187240" y="1315080"/>
              <a:ext cx="1203120" cy="715320"/>
            </a:xfrm>
            <a:prstGeom prst="bentConnector3">
              <a:avLst>
                <a:gd name="adj1" fmla="val 0"/>
              </a:avLst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313" name="Elbow Connector 41"/>
            <p:cNvCxnSpPr/>
            <p:nvPr/>
          </p:nvCxnSpPr>
          <p:spPr>
            <a:xfrm>
              <a:off x="5416920" y="1855800"/>
              <a:ext cx="598680" cy="418680"/>
            </a:xfrm>
            <a:prstGeom prst="bentConnector3">
              <a:avLst>
                <a:gd name="adj1" fmla="val 99398"/>
              </a:avLst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314" name="Straight Arrow Connector 42"/>
            <p:cNvCxnSpPr/>
            <p:nvPr/>
          </p:nvCxnSpPr>
          <p:spPr>
            <a:xfrm>
              <a:off x="6695640" y="2545200"/>
              <a:ext cx="5324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15" name="Straight Arrow Connector 43"/>
            <p:cNvCxnSpPr>
              <a:endCxn id="1297" idx="1"/>
            </p:cNvCxnSpPr>
            <p:nvPr/>
          </p:nvCxnSpPr>
          <p:spPr>
            <a:xfrm flipV="1">
              <a:off x="5423400" y="2540520"/>
              <a:ext cx="490680" cy="46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16" name="Straight Arrow Connector 44"/>
            <p:cNvCxnSpPr/>
            <p:nvPr/>
          </p:nvCxnSpPr>
          <p:spPr>
            <a:xfrm flipV="1">
              <a:off x="8584920" y="900000"/>
              <a:ext cx="3927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17" name="Rectangle 46"/>
            <p:cNvSpPr/>
            <p:nvPr/>
          </p:nvSpPr>
          <p:spPr>
            <a:xfrm>
              <a:off x="44280" y="1162800"/>
              <a:ext cx="50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es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18" name="TextBox 47"/>
            <p:cNvSpPr/>
            <p:nvPr/>
          </p:nvSpPr>
          <p:spPr>
            <a:xfrm>
              <a:off x="8899920" y="77328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 Switc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19" name="TextBox 48"/>
            <p:cNvSpPr/>
            <p:nvPr/>
          </p:nvSpPr>
          <p:spPr>
            <a:xfrm>
              <a:off x="7158960" y="2427120"/>
              <a:ext cx="165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ntrol Comput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0" name="Rectangle 55"/>
            <p:cNvSpPr/>
            <p:nvPr/>
          </p:nvSpPr>
          <p:spPr>
            <a:xfrm>
              <a:off x="3328560" y="1875240"/>
              <a:ext cx="779760" cy="521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1" name="Rectangle 56"/>
            <p:cNvSpPr/>
            <p:nvPr/>
          </p:nvSpPr>
          <p:spPr>
            <a:xfrm>
              <a:off x="3328560" y="189000"/>
              <a:ext cx="779760" cy="521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322" name="Straight Arrow Connector 57"/>
            <p:cNvCxnSpPr/>
            <p:nvPr/>
          </p:nvCxnSpPr>
          <p:spPr>
            <a:xfrm flipV="1">
              <a:off x="3718080" y="1554120"/>
              <a:ext cx="1080" cy="322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23" name="TextBox 58"/>
            <p:cNvSpPr/>
            <p:nvPr/>
          </p:nvSpPr>
          <p:spPr>
            <a:xfrm>
              <a:off x="3447360" y="318600"/>
              <a:ext cx="5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_I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4" name="TextBox 59"/>
            <p:cNvSpPr/>
            <p:nvPr/>
          </p:nvSpPr>
          <p:spPr>
            <a:xfrm>
              <a:off x="3424320" y="20070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_II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1325" name="Group 7"/>
          <p:cNvGrpSpPr/>
          <p:nvPr/>
        </p:nvGrpSpPr>
        <p:grpSpPr>
          <a:xfrm>
            <a:off x="1363680" y="2924280"/>
            <a:ext cx="3117960" cy="3744720"/>
            <a:chOff x="1363680" y="2924280"/>
            <a:chExt cx="3117960" cy="3744720"/>
          </a:xfrm>
        </p:grpSpPr>
        <p:sp>
          <p:nvSpPr>
            <p:cNvPr id="1326" name="Rectangle 49"/>
            <p:cNvSpPr/>
            <p:nvPr/>
          </p:nvSpPr>
          <p:spPr>
            <a:xfrm>
              <a:off x="1363680" y="2924280"/>
              <a:ext cx="3111840" cy="37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7" name="Rectangle 50"/>
            <p:cNvSpPr/>
            <p:nvPr/>
          </p:nvSpPr>
          <p:spPr>
            <a:xfrm>
              <a:off x="1415880" y="3173040"/>
              <a:ext cx="1168920" cy="6631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8" name="Rectangle 51"/>
            <p:cNvSpPr/>
            <p:nvPr/>
          </p:nvSpPr>
          <p:spPr>
            <a:xfrm>
              <a:off x="1415880" y="5564880"/>
              <a:ext cx="1168920" cy="6631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29" name="Rectangle 52"/>
            <p:cNvSpPr/>
            <p:nvPr/>
          </p:nvSpPr>
          <p:spPr>
            <a:xfrm>
              <a:off x="2294280" y="3884400"/>
              <a:ext cx="2132640" cy="1632240"/>
            </a:xfrm>
            <a:prstGeom prst="rect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0" name="Rectangle 53"/>
            <p:cNvSpPr/>
            <p:nvPr/>
          </p:nvSpPr>
          <p:spPr>
            <a:xfrm>
              <a:off x="2633400" y="2972160"/>
              <a:ext cx="1454040" cy="86400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1" name="Rectangle 54"/>
            <p:cNvSpPr/>
            <p:nvPr/>
          </p:nvSpPr>
          <p:spPr>
            <a:xfrm>
              <a:off x="1857960" y="3980520"/>
              <a:ext cx="387720" cy="144036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2" name="Rectangle 60"/>
            <p:cNvSpPr/>
            <p:nvPr/>
          </p:nvSpPr>
          <p:spPr>
            <a:xfrm>
              <a:off x="1415880" y="4532040"/>
              <a:ext cx="387720" cy="7678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3" name="Rectangle 61"/>
            <p:cNvSpPr/>
            <p:nvPr/>
          </p:nvSpPr>
          <p:spPr>
            <a:xfrm>
              <a:off x="2871360" y="5564880"/>
              <a:ext cx="389880" cy="61704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4" name="Rectangle 62"/>
            <p:cNvSpPr/>
            <p:nvPr/>
          </p:nvSpPr>
          <p:spPr>
            <a:xfrm>
              <a:off x="3893760" y="5564880"/>
              <a:ext cx="533160" cy="1061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5" name="Rectangle 63"/>
            <p:cNvSpPr/>
            <p:nvPr/>
          </p:nvSpPr>
          <p:spPr>
            <a:xfrm>
              <a:off x="3312000" y="5564880"/>
              <a:ext cx="533160" cy="767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6" name="TextBox 64"/>
            <p:cNvSpPr/>
            <p:nvPr/>
          </p:nvSpPr>
          <p:spPr>
            <a:xfrm>
              <a:off x="3851280" y="602496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0Gb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-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7" name="TextBox 65"/>
            <p:cNvSpPr/>
            <p:nvPr/>
          </p:nvSpPr>
          <p:spPr>
            <a:xfrm>
              <a:off x="3255120" y="5875200"/>
              <a:ext cx="66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ormatt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8" name="TextBox 66"/>
            <p:cNvSpPr/>
            <p:nvPr/>
          </p:nvSpPr>
          <p:spPr>
            <a:xfrm>
              <a:off x="2845080" y="5780880"/>
              <a:ext cx="44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OPC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39" name="TextBox 67"/>
            <p:cNvSpPr/>
            <p:nvPr/>
          </p:nvSpPr>
          <p:spPr>
            <a:xfrm rot="16200000">
              <a:off x="1634040" y="461736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rner Turn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0" name="TextBox 68"/>
            <p:cNvSpPr/>
            <p:nvPr/>
          </p:nvSpPr>
          <p:spPr>
            <a:xfrm rot="16200000">
              <a:off x="1278720" y="4831920"/>
              <a:ext cx="64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fram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1" name="TextBox 69"/>
            <p:cNvSpPr/>
            <p:nvPr/>
          </p:nvSpPr>
          <p:spPr>
            <a:xfrm>
              <a:off x="2643120" y="4604760"/>
              <a:ext cx="14457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rrelator Engine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(Containing 132 MAC cells)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2" name="TextBox 70"/>
            <p:cNvSpPr/>
            <p:nvPr/>
          </p:nvSpPr>
          <p:spPr>
            <a:xfrm>
              <a:off x="2781720" y="3322080"/>
              <a:ext cx="117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Validity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ccumulato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3" name="TextBox 71"/>
            <p:cNvSpPr/>
            <p:nvPr/>
          </p:nvSpPr>
          <p:spPr>
            <a:xfrm>
              <a:off x="1744920" y="5805000"/>
              <a:ext cx="50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_II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4" name="TextBox 72"/>
            <p:cNvSpPr/>
            <p:nvPr/>
          </p:nvSpPr>
          <p:spPr>
            <a:xfrm>
              <a:off x="1770840" y="3443400"/>
              <a:ext cx="47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_I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5" name="Rectangle 73"/>
            <p:cNvSpPr/>
            <p:nvPr/>
          </p:nvSpPr>
          <p:spPr>
            <a:xfrm>
              <a:off x="1421640" y="4186440"/>
              <a:ext cx="290520" cy="2880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6" name="TextBox 74"/>
            <p:cNvSpPr/>
            <p:nvPr/>
          </p:nvSpPr>
          <p:spPr>
            <a:xfrm>
              <a:off x="1408680" y="4234680"/>
              <a:ext cx="33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BI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7" name="Rectangle 75"/>
            <p:cNvSpPr/>
            <p:nvPr/>
          </p:nvSpPr>
          <p:spPr>
            <a:xfrm>
              <a:off x="2633400" y="5565960"/>
              <a:ext cx="187920" cy="5058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348" name="TextBox 76"/>
            <p:cNvSpPr/>
            <p:nvPr/>
          </p:nvSpPr>
          <p:spPr>
            <a:xfrm rot="16200000">
              <a:off x="2377080" y="5720040"/>
              <a:ext cx="707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Gb-Eth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pic>
        <p:nvPicPr>
          <p:cNvPr id="1349" name="Picture 3" descr="bn_top_chipplanner.jpeg"/>
          <p:cNvPicPr/>
          <p:nvPr/>
        </p:nvPicPr>
        <p:blipFill>
          <a:blip r:embed="rId1"/>
          <a:stretch/>
        </p:blipFill>
        <p:spPr>
          <a:xfrm>
            <a:off x="5173560" y="2924280"/>
            <a:ext cx="3130560" cy="3744720"/>
          </a:xfrm>
          <a:prstGeom prst="rect">
            <a:avLst/>
          </a:prstGeom>
          <a:ln w="0">
            <a:noFill/>
          </a:ln>
        </p:spPr>
      </p:pic>
      <p:sp>
        <p:nvSpPr>
          <p:cNvPr id="1350" name="TextBox 10"/>
          <p:cNvSpPr/>
          <p:nvPr/>
        </p:nvSpPr>
        <p:spPr>
          <a:xfrm>
            <a:off x="361800" y="638172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Floor Pla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1" name="TextBox 77"/>
          <p:cNvSpPr/>
          <p:nvPr/>
        </p:nvSpPr>
        <p:spPr>
          <a:xfrm>
            <a:off x="8348040" y="638172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hysical 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2" name="TextBox 78"/>
          <p:cNvSpPr/>
          <p:nvPr/>
        </p:nvSpPr>
        <p:spPr>
          <a:xfrm>
            <a:off x="7885440" y="22536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ierarchical 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3" name="TextBox 79"/>
          <p:cNvSpPr/>
          <p:nvPr/>
        </p:nvSpPr>
        <p:spPr>
          <a:xfrm>
            <a:off x="302400" y="200160"/>
            <a:ext cx="22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Back Node Implementatio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orrelator Multiply Accumulate Cell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55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56" name="Picture 6" descr="maccell.png"/>
          <p:cNvPicPr/>
          <p:nvPr/>
        </p:nvPicPr>
        <p:blipFill>
          <a:blip r:embed="rId1"/>
          <a:stretch/>
        </p:blipFill>
        <p:spPr>
          <a:xfrm>
            <a:off x="1295280" y="1028880"/>
            <a:ext cx="730260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Validity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bit per VDIF frame stored in 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hole FFT is invalid if any contributing data are 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ix FFTs in an integration are invalid because pre-filter structure is fill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FFTs are substituted by zeros so do not contribute to the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validity bit per FFT is carried across to BN and corner-turned with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ty-two bit validity accumulators calculate normalization factors for every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urrent Development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n delay/phase coefficients from 32/48 to 48/6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Firmware written and under simulation/tes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bands of 32MHz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Under tes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Firmware written, needs integration and verification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IF Fram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o far only 5000 byte frames have been test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Mixed frame lengths can be supported with further work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sp>
        <p:nvSpPr>
          <p:cNvPr id="1362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Future Development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1, 4 and 8 bit sampl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One bit can be supported by converting to 2 bit at the inpu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4 and 8 bit to be added when need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IF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and of 64MHz bandwidth, other mo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ger output data to alleviate bur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spectral resolution to reduce volume of outpu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1024 -&gt; 64 poin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Boar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x to 8x the bandwidth per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31280" y="998280"/>
            <a:ext cx="899964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UC correlator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Specification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97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430200" y="838080"/>
          <a:ext cx="9001080" cy="4079880"/>
        </p:xfrm>
        <a:graphic>
          <a:graphicData uri="http://schemas.openxmlformats.org/drawingml/2006/table">
            <a:tbl>
              <a:tblPr/>
              <a:tblGrid>
                <a:gridCol w="3000240"/>
                <a:gridCol w="3000600"/>
                <a:gridCol w="300024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upported June 201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tion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larization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dwidth (real time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MHz (1 UNB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n MHz  (n UNBs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b-ba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(real time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MHz, 32MHz under test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MHz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p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olu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max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bit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 2, 4, 8 bit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gr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ime (all products)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22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22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rel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1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c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ros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uto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ross-polarization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1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equenc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olution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625kHz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kHz spectral line mode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25kHz continuum mode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p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ormat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DIF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DIF mixed frame sizes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Overall Signal Flow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0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1" name="Rectangle 11"/>
          <p:cNvSpPr/>
          <p:nvPr/>
        </p:nvSpPr>
        <p:spPr>
          <a:xfrm>
            <a:off x="1785960" y="1285920"/>
            <a:ext cx="63309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02" name="Picture 4" descr="sigflow_all.png"/>
          <p:cNvPicPr/>
          <p:nvPr/>
        </p:nvPicPr>
        <p:blipFill>
          <a:blip r:embed="rId1"/>
          <a:stretch/>
        </p:blipFill>
        <p:spPr>
          <a:xfrm>
            <a:off x="1778040" y="1282680"/>
            <a:ext cx="6332400" cy="429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3" name="Object 12"/>
          <p:cNvGraphicFramePr/>
          <p:nvPr/>
        </p:nvGraphicFramePr>
        <p:xfrm>
          <a:off x="1757520" y="1270080"/>
          <a:ext cx="6387840" cy="431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7520" y="1270080"/>
                    <a:ext cx="638784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ontrol 1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start of every scan the control computer mus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An application reset to all node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start secon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bandwidth, frame length, integration tim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Which input streams are lower sideband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In the BNs, the products to export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ing data are stored in a 4 second circula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data stream (station, polarization &amp; band) is determined by the UDP port number and IP addres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time slot is determined by the VDIF time code and frame number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Control 2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rocessing begins after 2 seconds of data have been placed in the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Board does not check if all the data has arrived … it waits for the control computer to te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‘second’ the control computer tells the UniBoard how many integrations to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Board indicates via a status bit when it has finished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 computer interacts with FN0. FN0 tells the other FN1,2 &amp; 3 when to start and stop process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Board does not know if it is processing disk packs or eVL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 in the data are handled by the validity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Diagnostics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diagnostic registers are read and logged by the control computer during a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Number of frames received per input stream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Number of unmatched frames receiv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Number of delay model packets receiv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Number of packets received and transmitted by 10GbE por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Counts of the FFT frames generated by each FN and received by each BN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statistics module has been written but not yet integrated into the FN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36600" y="198360"/>
            <a:ext cx="573552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29840" y="837720"/>
            <a:ext cx="900108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 stations x 2 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All products are calculated but only the necessary ones are exported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tations are virtual: the control software can make a 16 or 8 station correlator with 2x or 4x the bandwidth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mode is 4 bands of 16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Wider bands (32MHz, 64MHz) be supported with new firmwar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Narrower bands (8MHz, 4MHz …) can be processed at a multiple of real tim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and is channelized to 1024 frequency 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Other channelizations could be supported with new firmwar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The polyphase filter window function can be changed at run tim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integration time is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Limited by size of DDR3 module used for corner turning 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Footer Placeholder 3"/>
          <p:cNvSpPr/>
          <p:nvPr/>
        </p:nvSpPr>
        <p:spPr>
          <a:xfrm>
            <a:off x="3335400" y="638172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VE UniBoard Correlator External Review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99"/>
          <p:cNvSpPr/>
          <p:nvPr/>
        </p:nvSpPr>
        <p:spPr>
          <a:xfrm>
            <a:off x="1647720" y="4437000"/>
            <a:ext cx="2428920" cy="2131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118" name="Group 98"/>
          <p:cNvGrpSpPr/>
          <p:nvPr/>
        </p:nvGrpSpPr>
        <p:grpSpPr>
          <a:xfrm>
            <a:off x="168120" y="173160"/>
            <a:ext cx="9477360" cy="2700360"/>
            <a:chOff x="168120" y="173160"/>
            <a:chExt cx="9477360" cy="2700360"/>
          </a:xfrm>
        </p:grpSpPr>
        <p:sp>
          <p:nvSpPr>
            <p:cNvPr id="1119" name="Rectangle 4"/>
            <p:cNvSpPr/>
            <p:nvPr/>
          </p:nvSpPr>
          <p:spPr>
            <a:xfrm>
              <a:off x="1519920" y="1050120"/>
              <a:ext cx="726120" cy="542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0" name="TextBox 5"/>
            <p:cNvSpPr/>
            <p:nvPr/>
          </p:nvSpPr>
          <p:spPr>
            <a:xfrm>
              <a:off x="1516680" y="1192680"/>
              <a:ext cx="72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0Gb-Et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2536920" y="1044720"/>
              <a:ext cx="726120" cy="548640"/>
            </a:xfrm>
            <a:prstGeom prst="rect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2507040" y="1131840"/>
              <a:ext cx="777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acket Receiv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3" name="Rectangle 10"/>
            <p:cNvSpPr/>
            <p:nvPr/>
          </p:nvSpPr>
          <p:spPr>
            <a:xfrm>
              <a:off x="3553920" y="1050120"/>
              <a:ext cx="726840" cy="542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4" name="TextBox 11"/>
            <p:cNvSpPr/>
            <p:nvPr/>
          </p:nvSpPr>
          <p:spPr>
            <a:xfrm>
              <a:off x="3655080" y="119268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ix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5" name="Rectangle 13"/>
            <p:cNvSpPr/>
            <p:nvPr/>
          </p:nvSpPr>
          <p:spPr>
            <a:xfrm>
              <a:off x="4271400" y="1050120"/>
              <a:ext cx="734760" cy="542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6" name="TextBox 14"/>
            <p:cNvSpPr/>
            <p:nvPr/>
          </p:nvSpPr>
          <p:spPr>
            <a:xfrm>
              <a:off x="4207320" y="1119960"/>
              <a:ext cx="84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re Filter Structur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7" name="Rectangle 16"/>
            <p:cNvSpPr/>
            <p:nvPr/>
          </p:nvSpPr>
          <p:spPr>
            <a:xfrm>
              <a:off x="5006160" y="1050120"/>
              <a:ext cx="726120" cy="5428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8" name="TextBox 17"/>
            <p:cNvSpPr/>
            <p:nvPr/>
          </p:nvSpPr>
          <p:spPr>
            <a:xfrm>
              <a:off x="5172840" y="1192680"/>
              <a:ext cx="3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FT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29" name="Rectangle 19"/>
            <p:cNvSpPr/>
            <p:nvPr/>
          </p:nvSpPr>
          <p:spPr>
            <a:xfrm>
              <a:off x="6027840" y="1050120"/>
              <a:ext cx="726120" cy="54288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0" name="TextBox 20"/>
            <p:cNvSpPr/>
            <p:nvPr/>
          </p:nvSpPr>
          <p:spPr>
            <a:xfrm>
              <a:off x="5999760" y="11926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Normalize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7056000" y="1050120"/>
              <a:ext cx="726120" cy="54288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2" name="TextBox 23"/>
            <p:cNvSpPr/>
            <p:nvPr/>
          </p:nvSpPr>
          <p:spPr>
            <a:xfrm>
              <a:off x="7110720" y="1192680"/>
              <a:ext cx="61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ram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3" name="Rectangle 25"/>
            <p:cNvSpPr/>
            <p:nvPr/>
          </p:nvSpPr>
          <p:spPr>
            <a:xfrm>
              <a:off x="8058600" y="1050120"/>
              <a:ext cx="726120" cy="542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4" name="TextBox 26"/>
            <p:cNvSpPr/>
            <p:nvPr/>
          </p:nvSpPr>
          <p:spPr>
            <a:xfrm>
              <a:off x="8233560" y="119268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BI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5" name="Rectangle 28"/>
            <p:cNvSpPr/>
            <p:nvPr/>
          </p:nvSpPr>
          <p:spPr>
            <a:xfrm>
              <a:off x="3541320" y="1873440"/>
              <a:ext cx="730080" cy="542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6" name="TextBox 29"/>
            <p:cNvSpPr/>
            <p:nvPr/>
          </p:nvSpPr>
          <p:spPr>
            <a:xfrm>
              <a:off x="3514320" y="2015640"/>
              <a:ext cx="766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lay Model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7" name="Rectangle 31"/>
            <p:cNvSpPr/>
            <p:nvPr/>
          </p:nvSpPr>
          <p:spPr>
            <a:xfrm>
              <a:off x="2558520" y="2330640"/>
              <a:ext cx="726120" cy="5428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8" name="TextBox 32"/>
            <p:cNvSpPr/>
            <p:nvPr/>
          </p:nvSpPr>
          <p:spPr>
            <a:xfrm>
              <a:off x="2686320" y="247212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OPC</a:t>
              </a:r>
              <a:endParaRPr b="0" lang="en-US" sz="1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39" name="Rectangle 34"/>
            <p:cNvSpPr/>
            <p:nvPr/>
          </p:nvSpPr>
          <p:spPr>
            <a:xfrm>
              <a:off x="1520280" y="2015640"/>
              <a:ext cx="726120" cy="542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40" name="TextBox 35"/>
            <p:cNvSpPr/>
            <p:nvPr/>
          </p:nvSpPr>
          <p:spPr>
            <a:xfrm>
              <a:off x="1550160" y="2132280"/>
              <a:ext cx="65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Gb-Et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141" name="Straight Arrow Connector 36"/>
            <p:cNvCxnSpPr/>
            <p:nvPr/>
          </p:nvCxnSpPr>
          <p:spPr>
            <a:xfrm>
              <a:off x="1229760" y="1322280"/>
              <a:ext cx="2908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2" name="Straight Arrow Connector 37"/>
            <p:cNvCxnSpPr/>
            <p:nvPr/>
          </p:nvCxnSpPr>
          <p:spPr>
            <a:xfrm flipV="1">
              <a:off x="2246400" y="1321920"/>
              <a:ext cx="2908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3" name="Straight Arrow Connector 38"/>
            <p:cNvCxnSpPr/>
            <p:nvPr/>
          </p:nvCxnSpPr>
          <p:spPr>
            <a:xfrm>
              <a:off x="3263040" y="1322280"/>
              <a:ext cx="28692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4" name="Straight Arrow Connector 40"/>
            <p:cNvCxnSpPr/>
            <p:nvPr/>
          </p:nvCxnSpPr>
          <p:spPr>
            <a:xfrm>
              <a:off x="5738760" y="1322280"/>
              <a:ext cx="2890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5" name="Straight Arrow Connector 41"/>
            <p:cNvCxnSpPr/>
            <p:nvPr/>
          </p:nvCxnSpPr>
          <p:spPr>
            <a:xfrm>
              <a:off x="6753960" y="1322280"/>
              <a:ext cx="3024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6" name="Straight Arrow Connector 42"/>
            <p:cNvCxnSpPr/>
            <p:nvPr/>
          </p:nvCxnSpPr>
          <p:spPr>
            <a:xfrm flipV="1">
              <a:off x="7782120" y="1321920"/>
              <a:ext cx="2768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7" name="Straight Arrow Connector 43"/>
            <p:cNvCxnSpPr/>
            <p:nvPr/>
          </p:nvCxnSpPr>
          <p:spPr>
            <a:xfrm flipV="1">
              <a:off x="8782920" y="1326600"/>
              <a:ext cx="3636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8" name="Elbow Connector 45"/>
            <p:cNvCxnSpPr>
              <a:endCxn id="1129" idx="2"/>
            </p:cNvCxnSpPr>
            <p:nvPr/>
          </p:nvCxnSpPr>
          <p:spPr>
            <a:xfrm flipV="1">
              <a:off x="4247280" y="1593000"/>
              <a:ext cx="2143800" cy="428400"/>
            </a:xfrm>
            <a:prstGeom prst="bentConnector2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149" name="Elbow Connector 46"/>
            <p:cNvCxnSpPr>
              <a:endCxn id="1122" idx="2"/>
            </p:cNvCxnSpPr>
            <p:nvPr/>
          </p:nvCxnSpPr>
          <p:spPr>
            <a:xfrm rot="10800000">
              <a:off x="2895480" y="1531080"/>
              <a:ext cx="658800" cy="484560"/>
            </a:xfrm>
            <a:prstGeom prst="bentConnector2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150" name="Straight Arrow Connector 47"/>
            <p:cNvCxnSpPr>
              <a:endCxn id="1135" idx="1"/>
            </p:cNvCxnSpPr>
            <p:nvPr/>
          </p:nvCxnSpPr>
          <p:spPr>
            <a:xfrm>
              <a:off x="2246400" y="2132640"/>
              <a:ext cx="1295280" cy="126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51" name="Straight Arrow Connector 48"/>
            <p:cNvCxnSpPr/>
            <p:nvPr/>
          </p:nvCxnSpPr>
          <p:spPr>
            <a:xfrm>
              <a:off x="2246400" y="2416320"/>
              <a:ext cx="311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52" name="Straight Arrow Connector 49"/>
            <p:cNvCxnSpPr>
              <a:stCxn id="1153" idx="3"/>
              <a:endCxn id="1139" idx="1"/>
            </p:cNvCxnSpPr>
            <p:nvPr/>
          </p:nvCxnSpPr>
          <p:spPr>
            <a:xfrm>
              <a:off x="1086120" y="2286720"/>
              <a:ext cx="4348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54" name="TextBox 56"/>
            <p:cNvSpPr/>
            <p:nvPr/>
          </p:nvSpPr>
          <p:spPr>
            <a:xfrm>
              <a:off x="400320" y="118764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 Switc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55" name="Rectangle 57"/>
            <p:cNvSpPr/>
            <p:nvPr/>
          </p:nvSpPr>
          <p:spPr>
            <a:xfrm>
              <a:off x="9140040" y="1204200"/>
              <a:ext cx="50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esh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53" name="TextBox 58"/>
            <p:cNvSpPr/>
            <p:nvPr/>
          </p:nvSpPr>
          <p:spPr>
            <a:xfrm>
              <a:off x="168120" y="2087280"/>
              <a:ext cx="91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ntrol Compute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156" name="Straight Arrow Connector 59"/>
            <p:cNvCxnSpPr>
              <a:endCxn id="1157" idx="2"/>
            </p:cNvCxnSpPr>
            <p:nvPr/>
          </p:nvCxnSpPr>
          <p:spPr>
            <a:xfrm flipH="1" flipV="1">
              <a:off x="2900160" y="721800"/>
              <a:ext cx="3960" cy="322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57" name="Rectangle 80"/>
            <p:cNvSpPr/>
            <p:nvPr/>
          </p:nvSpPr>
          <p:spPr>
            <a:xfrm>
              <a:off x="2536920" y="173160"/>
              <a:ext cx="726120" cy="548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58" name="TextBox 82"/>
            <p:cNvSpPr/>
            <p:nvPr/>
          </p:nvSpPr>
          <p:spPr>
            <a:xfrm>
              <a:off x="7478640" y="2416680"/>
              <a:ext cx="1846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159" name="Straight Arrow Connector 89"/>
            <p:cNvCxnSpPr>
              <a:stCxn id="1135" idx="0"/>
              <a:endCxn id="1123" idx="2"/>
            </p:cNvCxnSpPr>
            <p:nvPr/>
          </p:nvCxnSpPr>
          <p:spPr>
            <a:xfrm flipV="1">
              <a:off x="3906360" y="1593000"/>
              <a:ext cx="11520" cy="280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0" name="TextBox 94"/>
            <p:cNvSpPr/>
            <p:nvPr/>
          </p:nvSpPr>
          <p:spPr>
            <a:xfrm>
              <a:off x="2676960" y="347400"/>
              <a:ext cx="44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</a:t>
              </a:r>
              <a:endParaRPr b="0" lang="en-US" sz="1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cxnSp>
          <p:nvCxnSpPr>
            <p:cNvPr id="1161" name="Straight Arrow Connector 96"/>
            <p:cNvCxnSpPr/>
            <p:nvPr/>
          </p:nvCxnSpPr>
          <p:spPr>
            <a:xfrm flipV="1">
              <a:off x="4280040" y="1051920"/>
              <a:ext cx="2880" cy="5378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</p:cxnSp>
        <p:cxnSp>
          <p:nvCxnSpPr>
            <p:cNvPr id="1162" name="Straight Arrow Connector 97"/>
            <p:cNvCxnSpPr/>
            <p:nvPr/>
          </p:nvCxnSpPr>
          <p:spPr>
            <a:xfrm flipV="1">
              <a:off x="5004000" y="1051920"/>
              <a:ext cx="2880" cy="5378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</p:cxnSp>
      </p:grpSp>
      <p:sp>
        <p:nvSpPr>
          <p:cNvPr id="1163" name="TextBox 50"/>
          <p:cNvSpPr/>
          <p:nvPr/>
        </p:nvSpPr>
        <p:spPr>
          <a:xfrm>
            <a:off x="244080" y="20016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Front Node 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mplementatio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4" name="TextBox 51"/>
          <p:cNvSpPr/>
          <p:nvPr/>
        </p:nvSpPr>
        <p:spPr>
          <a:xfrm>
            <a:off x="7885440" y="22536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ierarchical 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5" name="TextBox 52"/>
          <p:cNvSpPr/>
          <p:nvPr/>
        </p:nvSpPr>
        <p:spPr>
          <a:xfrm>
            <a:off x="8805240" y="6269040"/>
            <a:ext cx="79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hysical 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Desig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6" name="TextBox 53"/>
          <p:cNvSpPr/>
          <p:nvPr/>
        </p:nvSpPr>
        <p:spPr>
          <a:xfrm>
            <a:off x="2520" y="645336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Floor Plan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167" name="Group 54"/>
          <p:cNvGrpSpPr/>
          <p:nvPr/>
        </p:nvGrpSpPr>
        <p:grpSpPr>
          <a:xfrm>
            <a:off x="973080" y="3038400"/>
            <a:ext cx="3117960" cy="3743280"/>
            <a:chOff x="973080" y="3038400"/>
            <a:chExt cx="3117960" cy="3743280"/>
          </a:xfrm>
        </p:grpSpPr>
        <p:sp>
          <p:nvSpPr>
            <p:cNvPr id="1168" name="Rectangle 55"/>
            <p:cNvSpPr/>
            <p:nvPr/>
          </p:nvSpPr>
          <p:spPr>
            <a:xfrm>
              <a:off x="974520" y="3038400"/>
              <a:ext cx="3110400" cy="374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69" name="Rectangle 65"/>
            <p:cNvSpPr/>
            <p:nvPr/>
          </p:nvSpPr>
          <p:spPr>
            <a:xfrm>
              <a:off x="1311840" y="3038400"/>
              <a:ext cx="2770920" cy="1398600"/>
            </a:xfrm>
            <a:prstGeom prst="rect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0" name="Rectangle 60"/>
            <p:cNvSpPr/>
            <p:nvPr/>
          </p:nvSpPr>
          <p:spPr>
            <a:xfrm>
              <a:off x="1793520" y="3038400"/>
              <a:ext cx="1168200" cy="6631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1" name="Rectangle 63"/>
            <p:cNvSpPr/>
            <p:nvPr/>
          </p:nvSpPr>
          <p:spPr>
            <a:xfrm>
              <a:off x="1231200" y="4174920"/>
              <a:ext cx="523080" cy="89388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2" name="Rectangle 66"/>
            <p:cNvSpPr/>
            <p:nvPr/>
          </p:nvSpPr>
          <p:spPr>
            <a:xfrm>
              <a:off x="3378600" y="6125400"/>
              <a:ext cx="619920" cy="6166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3" name="Rectangle 67"/>
            <p:cNvSpPr/>
            <p:nvPr/>
          </p:nvSpPr>
          <p:spPr>
            <a:xfrm>
              <a:off x="3515760" y="3238560"/>
              <a:ext cx="532800" cy="1061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4" name="Rectangle 68"/>
            <p:cNvSpPr/>
            <p:nvPr/>
          </p:nvSpPr>
          <p:spPr>
            <a:xfrm>
              <a:off x="974520" y="5444640"/>
              <a:ext cx="1013760" cy="133704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5" name="TextBox 69"/>
            <p:cNvSpPr/>
            <p:nvPr/>
          </p:nvSpPr>
          <p:spPr>
            <a:xfrm>
              <a:off x="3460680" y="370080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0Gb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-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h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6" name="TextBox 70"/>
            <p:cNvSpPr/>
            <p:nvPr/>
          </p:nvSpPr>
          <p:spPr>
            <a:xfrm>
              <a:off x="1200240" y="5893920"/>
              <a:ext cx="48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lay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odel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7" name="TextBox 71"/>
            <p:cNvSpPr/>
            <p:nvPr/>
          </p:nvSpPr>
          <p:spPr>
            <a:xfrm>
              <a:off x="3456720" y="6324480"/>
              <a:ext cx="44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OPC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8" name="TextBox 72"/>
            <p:cNvSpPr/>
            <p:nvPr/>
          </p:nvSpPr>
          <p:spPr>
            <a:xfrm>
              <a:off x="2419200" y="5221800"/>
              <a:ext cx="69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ilter Bank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79" name="TextBox 73"/>
            <p:cNvSpPr/>
            <p:nvPr/>
          </p:nvSpPr>
          <p:spPr>
            <a:xfrm>
              <a:off x="2349000" y="3925440"/>
              <a:ext cx="86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acket receive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0" name="TextBox 75"/>
            <p:cNvSpPr/>
            <p:nvPr/>
          </p:nvSpPr>
          <p:spPr>
            <a:xfrm rot="16200000">
              <a:off x="1150560" y="4606920"/>
              <a:ext cx="556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rame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1" name="TextBox 77"/>
            <p:cNvSpPr/>
            <p:nvPr/>
          </p:nvSpPr>
          <p:spPr>
            <a:xfrm>
              <a:off x="2107440" y="3240000"/>
              <a:ext cx="39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DR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2" name="Rectangle 78"/>
            <p:cNvSpPr/>
            <p:nvPr/>
          </p:nvSpPr>
          <p:spPr>
            <a:xfrm>
              <a:off x="973080" y="4174920"/>
              <a:ext cx="257760" cy="8938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3" name="TextBox 79"/>
            <p:cNvSpPr/>
            <p:nvPr/>
          </p:nvSpPr>
          <p:spPr>
            <a:xfrm rot="16200000">
              <a:off x="929880" y="4547880"/>
              <a:ext cx="33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FBI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4" name="Rectangle 81"/>
            <p:cNvSpPr/>
            <p:nvPr/>
          </p:nvSpPr>
          <p:spPr>
            <a:xfrm>
              <a:off x="3646080" y="5124600"/>
              <a:ext cx="436680" cy="10036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85" name="TextBox 83"/>
            <p:cNvSpPr/>
            <p:nvPr/>
          </p:nvSpPr>
          <p:spPr>
            <a:xfrm rot="16200000">
              <a:off x="3528360" y="5470920"/>
              <a:ext cx="70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1Gb-Eth</a:t>
              </a:r>
              <a:endParaRPr b="0" lang="en-US" sz="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pic>
        <p:nvPicPr>
          <p:cNvPr id="1186" name="Picture 92" descr="fn_top_chipplanner.jpeg"/>
          <p:cNvPicPr/>
          <p:nvPr/>
        </p:nvPicPr>
        <p:blipFill>
          <a:blip r:embed="rId1"/>
          <a:stretch/>
        </p:blipFill>
        <p:spPr>
          <a:xfrm>
            <a:off x="5611680" y="2962440"/>
            <a:ext cx="3191040" cy="3819240"/>
          </a:xfrm>
          <a:prstGeom prst="rect">
            <a:avLst/>
          </a:prstGeom>
          <a:ln w="0">
            <a:noFill/>
          </a:ln>
        </p:spPr>
      </p:pic>
      <p:sp>
        <p:nvSpPr>
          <p:cNvPr id="1187" name="Rectangle 100"/>
          <p:cNvSpPr/>
          <p:nvPr/>
        </p:nvSpPr>
        <p:spPr>
          <a:xfrm>
            <a:off x="1004760" y="5068800"/>
            <a:ext cx="749520" cy="3682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8" name="TextBox 101"/>
          <p:cNvSpPr/>
          <p:nvPr/>
        </p:nvSpPr>
        <p:spPr>
          <a:xfrm>
            <a:off x="1068120" y="514368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Normalize</a:t>
            </a: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9" name="Rectangle 102"/>
          <p:cNvSpPr/>
          <p:nvPr/>
        </p:nvSpPr>
        <p:spPr>
          <a:xfrm>
            <a:off x="3862440" y="4276800"/>
            <a:ext cx="196920" cy="447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8:51:29Z</dcterms:created>
  <dc:creator>Arpad Szomoru</dc:creator>
  <dc:description/>
  <dc:language>en-US</dc:language>
  <cp:lastModifiedBy>Jonathan Hargreaves</cp:lastModifiedBy>
  <cp:lastPrinted>2001-03-09T11:05:18Z</cp:lastPrinted>
  <dcterms:modified xsi:type="dcterms:W3CDTF">2014-09-03T14:50:48Z</dcterms:modified>
  <cp:revision>195</cp:revision>
  <dc:subject/>
  <dc:title>Data rate improvements</dc:title>
</cp:coreProperties>
</file>